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AE1-F87E-4E12-9182-A22B9FD0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30B4-F4E1-4EFE-AC72-275A953F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A13A-1288-4C64-99EB-777B89BC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2CB3-BD8E-4A57-89B1-6CC39EBF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BBB-5F84-48D3-8DC4-9F178CF1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670E-797C-4F68-9C28-3201F08F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70D-E140-4F36-BF2F-95A6DFD8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A875-21CA-4D76-A336-ACBE758E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5A6B-B327-4241-AD6E-070537FA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D8A-91C8-4AC4-A68F-10594AC2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FFF-CA33-40FE-BB5B-5AD2A074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A7E-280A-4048-8050-C15A5129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676A-7FFC-4F81-A314-8D8D8BB4E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Il pattern </a:t>
            </a:r>
            <a:r>
              <a:rPr b="1" i="1" lang="it-IT" sz="4400" spc="-1" strike="noStrike">
                <a:solidFill>
                  <a:srgbClr val="333399"/>
                </a:solidFill>
                <a:latin typeface="Times New Roman"/>
              </a:rPr>
              <a:t>Ob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836640"/>
            <a:ext cx="446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gegneria del Softwar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35640" y="5229360"/>
            <a:ext cx="3271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e Ferr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Applicabilit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d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cuni oggetti dipendono dai dati di un altro ogget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 hanno necessità di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ssere informati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do questi dati cambian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do una classe present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olti attribu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uona parte dei quali rappresent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ggetti che dipendono dal suo sta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C97F-B30B-47AD-9B71-A52700D6C8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000" spc="-1" strike="noStrike">
                <a:solidFill>
                  <a:srgbClr val="333399"/>
                </a:solidFill>
                <a:latin typeface="Times New Roman"/>
              </a:rPr>
              <a:t>: Struttura e Partecipan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548080"/>
            <a:ext cx="4038480" cy="26305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333399"/>
                </a:solidFill>
                <a:uFillTx/>
                <a:latin typeface="Times New Roman"/>
              </a:rPr>
              <a:t>Su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la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stra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tiene i metodi per la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gestione degli “osservator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333399"/>
                </a:solidFill>
                <a:uFillTx/>
                <a:latin typeface="Times New Roman"/>
              </a:rPr>
              <a:t>ConcreteSu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mplementazione vera e propria dell’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oggetto da realizz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redita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ttributi e metodi per la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gestione di “osservator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nterfacci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mune a tutti gli osservatori (metodo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update(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333399"/>
                </a:solidFill>
                <a:uFillTx/>
                <a:latin typeface="Times New Roman"/>
              </a:rPr>
              <a:t>ConcreteOb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mplementa il metodo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pdate(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nel modo più opport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CDC-E695-441D-A912-B1BE196F58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Collabor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333399"/>
                </a:solidFill>
                <a:uFillTx/>
                <a:latin typeface="Times New Roman"/>
              </a:rPr>
              <a:t>Concrete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tiene un attributo,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observer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che rappresent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’insieme degli oggetti interessati al suo sta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ette a disposizione, degli oggetti interessati, metod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add(o:Observer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remove(o:Observer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che permettono di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ggiungere o togliere un riferimento a loro stess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l’attribu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observer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d “ogni cambiamento”, invoca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notify(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per informare tutti gli oggetti riferiti in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observer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333399"/>
                </a:solidFill>
                <a:uFillTx/>
                <a:latin typeface="Times New Roman"/>
              </a:rPr>
              <a:t>Concrete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“registra”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ad uno specifico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ConcreteSubjec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qualora sia interessato ai cambiamenti di stato di quest’ultim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mplement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n modo specifico il metodo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update()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interfaccia nota 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ncreteSubjec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D663-2EC6-4D3D-B52E-150E27501F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NOTA: Significato dei nomi del pat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505152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i sono oggetti interessati ad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osservar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i cambiament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ell’oggetto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Concrete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3213000"/>
            <a:ext cx="770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Publisher-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Editore-Abbo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li oggetti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ConcreteObserver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i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abbonano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ai cambiamenti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pubblicat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all’oggetto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ConcreteSubject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cfr. metodi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add(o:Observer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remove(o:Observer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ereditati da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Delegation Event Mode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Ja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publisher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elega la gestione degli eventi ai vari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detti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Listener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60840" y="1882800"/>
            <a:ext cx="3143520" cy="16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B65-F695-4935-8D98-7C122227AB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Consegu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ntag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Times New Roman"/>
              </a:rPr>
              <a:t>Lasco accoppiamen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fr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ncreteSubjec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d 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ncreteObserv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ad esso registr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l subject sa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olo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che g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implementano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una certa interfac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i possono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ggiungere dinamicamente nuovi ob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o modifiche statich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alla classe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ConcreteSubject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(almeno per quanto riguarda gli ob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modifiche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alle classi)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on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devono esser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ropa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G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ossono esser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riferiti a molti subject diver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ssibilità di </a:t>
            </a:r>
            <a:r>
              <a:rPr b="1" lang="it-IT" sz="2000" spc="-1" strike="noStrike">
                <a:solidFill>
                  <a:srgbClr val="008000"/>
                </a:solidFill>
                <a:latin typeface="Times New Roman"/>
              </a:rPr>
              <a:t>costruire dinamicament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le collabor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E6B-1221-4932-8FBC-9C22324E50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Consegu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Svantag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Prestazioni peggior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in particolare per alcune implementazio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Difficoltà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nella comprensione delle dipendenz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fra oggetti (in fase di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testin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debuggin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quanti osservatori dipenderanno dal sogg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 quali soggetti un osservatore potrà riferir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3A62-525C-453E-87AB-598D4CF271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Implemen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li </a:t>
            </a:r>
            <a:r>
              <a:rPr b="1" i="1" lang="it-IT" sz="2400" spc="-1" strike="noStrike">
                <a:solidFill>
                  <a:srgbClr val="333399"/>
                </a:solidFill>
                <a:latin typeface="Times New Roman"/>
              </a:rPr>
              <a:t>observe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ossono esser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iferiti a 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più </a:t>
            </a:r>
            <a:r>
              <a:rPr b="1" i="1" lang="it-IT" sz="2400" spc="-1" strike="noStrike">
                <a:solidFill>
                  <a:srgbClr val="333399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e capiscono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quale </a:t>
            </a:r>
            <a:r>
              <a:rPr b="1" i="1" lang="it-IT" sz="2000" spc="-1" strike="noStrike">
                <a:solidFill>
                  <a:srgbClr val="ff0000"/>
                </a:solidFill>
                <a:latin typeface="Times New Roman"/>
              </a:rPr>
              <a:t>subject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a certa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 notifica è riferit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subject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assa un </a:t>
            </a:r>
            <a:r>
              <a:rPr b="1" lang="it-IT" sz="1800" spc="-1" strike="noStrike">
                <a:solidFill>
                  <a:srgbClr val="333399"/>
                </a:solidFill>
                <a:latin typeface="Times New Roman"/>
              </a:rPr>
              <a:t>riferimento a se stesso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e parametro di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notify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i.e.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notify(this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e mantenere le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associazioni fra </a:t>
            </a:r>
            <a:r>
              <a:rPr b="1" i="1" lang="it-IT" sz="2000" spc="-1" strike="noStrike">
                <a:solidFill>
                  <a:srgbClr val="ff0000"/>
                </a:solidFill>
                <a:latin typeface="Times New Roman"/>
              </a:rPr>
              <a:t>soggetti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e </a:t>
            </a:r>
            <a:r>
              <a:rPr b="1" i="1" lang="it-IT" sz="2000" spc="-1" strike="noStrike">
                <a:solidFill>
                  <a:srgbClr val="ff0000"/>
                </a:solidFill>
                <a:latin typeface="Times New Roman"/>
              </a:rPr>
              <a:t>osservator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trutture </a:t>
            </a:r>
            <a:r>
              <a:rPr b="1" lang="it-IT" sz="1800" spc="-1" strike="noStrike">
                <a:solidFill>
                  <a:srgbClr val="333399"/>
                </a:solidFill>
                <a:latin typeface="Times New Roman"/>
              </a:rPr>
              <a:t>assoc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ermettono di usare </a:t>
            </a:r>
            <a:r>
              <a:rPr b="0" lang="it-IT" sz="1600" spc="-1" strike="noStrike">
                <a:solidFill>
                  <a:srgbClr val="008000"/>
                </a:solidFill>
                <a:latin typeface="Times New Roman"/>
              </a:rPr>
              <a:t>meno spazi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es. soggetto senza osservato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omportano 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svantaggi nel tempo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(ricerca dell’oggetto specifi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B2B0-F4B5-472A-8F93-8D5EAA0FB9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Implemen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vio delle 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notif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 verificarsi di un cambiamento nello stato del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ch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ve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inviare la notific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agli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it-IT" sz="1800" spc="-1" strike="noStrike">
                <a:solidFill>
                  <a:srgbClr val="333399"/>
                </a:solidFill>
                <a:latin typeface="Times New Roman"/>
              </a:rPr>
              <a:t>client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el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invoca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notify(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ogni volta ch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ne modifica lo s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Troppa 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responsabilità al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onseguenze pesanti nel caso di 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dimentican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i="1" lang="it-IT" sz="1800" spc="-1" strike="noStrike">
                <a:solidFill>
                  <a:srgbClr val="333399"/>
                </a:solidFill>
                <a:latin typeface="Times New Roman"/>
              </a:rPr>
              <a:t>subject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invoca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notify()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e </a:t>
            </a:r>
            <a:r>
              <a:rPr b="1" lang="it-IT" sz="1800" spc="-1" strike="noStrike">
                <a:solidFill>
                  <a:srgbClr val="333399"/>
                </a:solidFill>
                <a:latin typeface="Times New Roman"/>
              </a:rPr>
              <a:t>ultima istruzione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dei metodi di </a:t>
            </a:r>
            <a:r>
              <a:rPr b="1" lang="it-IT" sz="1800" spc="-1" strike="noStrike">
                <a:solidFill>
                  <a:srgbClr val="333399"/>
                </a:solidFill>
                <a:latin typeface="Times New Roman"/>
              </a:rPr>
              <a:t>mod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ossibili 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stati inconsistenti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nel caso di metodi innes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95640" y="5013360"/>
            <a:ext cx="2376720" cy="1159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A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//do s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//do sth 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ify()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27640" y="5013360"/>
            <a:ext cx="2232000" cy="1159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//do s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notify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3DA6-AF2D-463F-8B6E-3962D676B4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Implemen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e 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propagar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e inform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e è possibile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are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conoscere lo stato del </a:t>
            </a:r>
            <a:r>
              <a:rPr b="1" i="1" lang="it-IT" sz="2000" spc="-1" strike="noStrike">
                <a:solidFill>
                  <a:srgbClr val="ff0000"/>
                </a:solidFill>
                <a:latin typeface="Times New Roman"/>
              </a:rPr>
              <a:t>subject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ll’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dello PUSH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il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invia agli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utti i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at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riguardanti il suo stato, di cui essi necessi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deve fare 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assunzioni sulle informazioni utili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ai vari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(deve conoscerli </a:t>
            </a:r>
            <a:r>
              <a:rPr b="0" lang="it-IT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dipendenz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dello PUL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dopo essere stati notificati, gli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richiedono al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nformazion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i cui necessitano (metodi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get(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iù</a:t>
            </a:r>
            <a:r>
              <a:rPr b="1" lang="it-IT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flessi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5459-FBFF-48DF-97CD-93AA6EC053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Implemen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propag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 inform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8000" y="2428920"/>
            <a:ext cx="5256360" cy="366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DA37-7D5A-4101-9CA1-04D9836E83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Noto anche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ublisher-Subscriber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Delegation Event Model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in Ja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Classific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bject behavio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Sco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finisce un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lazione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uno a mol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fra oggetti, in m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le che, quando u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ggetto cambia sta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tutti gli ogge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pendono da lu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ngan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tifica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e aggiorna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utomat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C7B0-A042-4A64-8215-E5EB5C1BF7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Implemen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e gestire 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cambiamenti ravvicin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Quando propagar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 cambiamen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roppo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t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lo stato può essere ancora modificato (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</a:rPr>
              <a:t>inefficienz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roppo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tard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i rischia di avere 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</a:rPr>
              <a:t>inconsis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è necessario un opportuno </a:t>
            </a:r>
            <a:r>
              <a:rPr b="1" lang="it-IT" sz="2000" spc="-1" strike="noStrike">
                <a:solidFill>
                  <a:srgbClr val="333399"/>
                </a:solidFill>
                <a:latin typeface="Times New Roman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9FA6-F826-45CC-97CE-EF2BA64059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Implemen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li 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cambiamenti signific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ale dev’essere la “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sensibilit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” del meccanismo di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notific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notifico ogni minima variazione o solo variazioni 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significativ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– cfr stazione mete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 utilizza un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flag </a:t>
            </a:r>
            <a:r>
              <a:rPr b="1" i="1" lang="it-IT" sz="1800" spc="-1" strike="noStrike">
                <a:solidFill>
                  <a:srgbClr val="333399"/>
                </a:solidFill>
                <a:latin typeface="Times New Roman"/>
              </a:rPr>
              <a:t>changed</a:t>
            </a:r>
            <a:r>
              <a:rPr b="0" lang="it-IT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posto a true quando si ha un cambiamento significativo rispetto all’ultima modif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0920" y="3716280"/>
            <a:ext cx="6337440" cy="2221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setChanged(){changed =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true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notify(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if(changed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for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i=0;i&lt;observers.size();i+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observers.elementAt(i)).updat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changed =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false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5B2F-1F15-4E39-8FA6-124E8AA330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Implemen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inguaggi con 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ereditarietà semplice</a:t>
            </a: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e implementare il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anche se il </a:t>
            </a:r>
            <a:r>
              <a:rPr b="1" i="1" lang="it-IT" sz="1800" spc="-1" strike="noStrike">
                <a:solidFill>
                  <a:srgbClr val="ff0000"/>
                </a:solidFill>
                <a:latin typeface="Times New Roman"/>
              </a:rPr>
              <a:t>ConcreteSubject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ve necessariamente </a:t>
            </a: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ereditare da altre class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892600" y="3141720"/>
            <a:ext cx="3358800" cy="2187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989440" y="3141720"/>
            <a:ext cx="1295280" cy="24480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00360" y="3789360"/>
            <a:ext cx="16668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5589720"/>
            <a:ext cx="34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0000"/>
                </a:solidFill>
                <a:latin typeface="Times New Roman"/>
              </a:rPr>
              <a:t>ConcreteSubject</a:t>
            </a:r>
            <a:r>
              <a:rPr b="0" lang="it-IT" sz="1400" spc="-1" strike="noStrike">
                <a:solidFill>
                  <a:srgbClr val="ff0000"/>
                </a:solidFill>
                <a:latin typeface="Times New Roman"/>
              </a:rPr>
              <a:t> è già sottoclasse di </a:t>
            </a:r>
            <a:r>
              <a:rPr b="0" i="1" lang="it-IT" sz="1400" spc="-1" strike="noStrike">
                <a:solidFill>
                  <a:srgbClr val="ff0000"/>
                </a:solidFill>
                <a:latin typeface="Times New Roman"/>
              </a:rPr>
              <a:t>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C929-E897-4595-AE2B-E7012AA6A3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Implemen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inguaggi con 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ereditarietà semplice</a:t>
            </a: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ima solu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è un </a:t>
            </a:r>
            <a:r>
              <a:rPr b="1" lang="it-IT" sz="1400" spc="-1" strike="noStrike">
                <a:solidFill>
                  <a:srgbClr val="333399"/>
                </a:solidFill>
                <a:latin typeface="Times New Roman"/>
              </a:rPr>
              <a:t>interface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mplementato da 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Concrete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ConcreteSubject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333399"/>
                </a:solidFill>
                <a:latin typeface="Times New Roman"/>
              </a:rPr>
              <a:t>delega</a:t>
            </a:r>
            <a:r>
              <a:rPr b="0" lang="it-IT" sz="1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it-IT" sz="1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it-IT" sz="1400" spc="-1" strike="noStrike">
                <a:solidFill>
                  <a:srgbClr val="333399"/>
                </a:solidFill>
                <a:latin typeface="Times New Roman"/>
              </a:rPr>
              <a:t>SubjectHelper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l’implementazione dei metodi di 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Svantaggio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: il 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codic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per la 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gestione degli observer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va </a:t>
            </a:r>
            <a:r>
              <a:rPr b="0" lang="it-IT" sz="1600" spc="-1" strike="noStrike">
                <a:solidFill>
                  <a:srgbClr val="ff0000"/>
                </a:solidFill>
                <a:latin typeface="Times New Roman"/>
              </a:rPr>
              <a:t>ripetuto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in ogni cla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NB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: potremmo modificare ancora, per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gestire diversi tipi di observ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3456000" cy="27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E37-52B2-4361-B8DA-C4B45EC20D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Implemen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inguaggi con 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ereditarietà semplice</a:t>
            </a: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onda solu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è un </a:t>
            </a:r>
            <a:r>
              <a:rPr b="1" lang="it-IT" sz="1400" spc="-1" strike="noStrike">
                <a:solidFill>
                  <a:srgbClr val="333399"/>
                </a:solidFill>
                <a:latin typeface="Times New Roman"/>
              </a:rPr>
              <a:t>interface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mplementato da 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Concrete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L’</a:t>
            </a:r>
            <a:r>
              <a:rPr b="1" lang="it-IT" sz="1400" spc="-1" strike="noStrike">
                <a:solidFill>
                  <a:srgbClr val="333399"/>
                </a:solidFill>
                <a:latin typeface="Times New Roman"/>
              </a:rPr>
              <a:t>oggetto del domini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è rappresentato dalla classe </a:t>
            </a:r>
            <a:r>
              <a:rPr b="1" i="1" lang="it-IT" sz="1400" spc="-1" strike="noStrike">
                <a:solidFill>
                  <a:srgbClr val="333399"/>
                </a:solidFill>
                <a:latin typeface="Times New Roman"/>
              </a:rPr>
              <a:t>DomainObject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che ha, fra i suoi </a:t>
            </a:r>
            <a:r>
              <a:rPr b="0" lang="it-IT" sz="1400" spc="-1" strike="noStrike">
                <a:solidFill>
                  <a:srgbClr val="333399"/>
                </a:solidFill>
                <a:latin typeface="Times New Roman"/>
              </a:rPr>
              <a:t>attribut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un oggetto di tipo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1400" spc="-1" strike="noStrike">
                <a:solidFill>
                  <a:srgbClr val="333399"/>
                </a:solidFill>
                <a:latin typeface="Times New Roman"/>
              </a:rPr>
              <a:t>ConcreteSubject</a:t>
            </a:r>
            <a:r>
              <a:rPr b="1" lang="it-IT" sz="1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si occupa della gestione degli 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Solo </a:t>
            </a:r>
            <a:r>
              <a:rPr b="1" i="1" lang="it-IT" sz="1600" spc="-1" strike="noStrike">
                <a:solidFill>
                  <a:srgbClr val="008000"/>
                </a:solidFill>
                <a:latin typeface="Times New Roman"/>
              </a:rPr>
              <a:t>ConcreteSubject</a:t>
            </a: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implementa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 metodi di </a:t>
            </a: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DomainObject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uò avere </a:t>
            </a: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più attributi di tipo </a:t>
            </a:r>
            <a:r>
              <a:rPr b="1" i="1" lang="it-IT" sz="1600" spc="-1" strike="noStrike">
                <a:solidFill>
                  <a:srgbClr val="008000"/>
                </a:solidFill>
                <a:latin typeface="Times New Roman"/>
              </a:rPr>
              <a:t>ConcreteSubject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può </a:t>
            </a: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differenziare gli observer</a:t>
            </a:r>
            <a:r>
              <a:rPr b="0" lang="it-IT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 base agli eventi cui sono interessa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379600" y="3112920"/>
            <a:ext cx="5000760" cy="21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99DA-8B1F-4369-9555-F2B46F92C2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Codice d’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zione dell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zione meteorolo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2309760"/>
            <a:ext cx="7129440" cy="3503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abstract class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Subject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Vector observer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void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add(Observer o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observers.add(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void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remove(Observer o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observers.remove(indexOf(o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void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notify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i=0;i&lt;observers.size();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(observers.elementAt(i)).update(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this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892-4992-4C3E-A989-081FAD7E7D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Codice d’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1484280"/>
            <a:ext cx="7129440" cy="456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class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WeatherStation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extends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Subject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rivate double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temperatur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rivate double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humidit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rivate double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pressur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WeatherStation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observers =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new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Ve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8000"/>
                </a:solidFill>
                <a:latin typeface="Courier New"/>
              </a:rPr>
              <a:t>//acquisizione delle prime misurazi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void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setParam(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double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t,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double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h,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double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p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temperature = 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humidity = 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pressure = p;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notify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double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getTemperature(){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temperature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double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getHumidity(){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humidity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double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getPressure(){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return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pressure;}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00D4-7E74-40B2-B31C-933B5FB0CB9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Codice d’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1484280"/>
            <a:ext cx="7129440" cy="4356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interface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Observer{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void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update(Subject s)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class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Display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implements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Observer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rivate double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measuredTe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rivate double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measuredHu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rivate double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measuredPr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Display(...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8000"/>
                </a:solidFill>
                <a:latin typeface="Courier New"/>
              </a:rPr>
              <a:t>//acquisizione delle misure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void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update(Subject s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measuredTemp = s.getTemperatur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measuredHum = s.getHumidity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measuredPress = s.getPressure();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showCond()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void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showCon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8000"/>
                </a:solidFill>
                <a:latin typeface="Courier New"/>
              </a:rPr>
              <a:t>//visualizzazione delle condizioni met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489-B88B-4951-9787-AA3E762DB2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Codice d’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1484280"/>
            <a:ext cx="7129440" cy="4204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class</a:t>
            </a:r>
            <a:r>
              <a:rPr b="0" lang="it-IT" sz="1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ForecastDisplay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implements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Observer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rivate double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measuredTe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rivate double</a:t>
            </a:r>
            <a:r>
              <a:rPr b="0" lang="it-IT" sz="1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measuredHu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rivate double</a:t>
            </a:r>
            <a:r>
              <a:rPr b="0" lang="it-IT" sz="1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measuredPr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ForecastDisplay(...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8000"/>
                </a:solidFill>
                <a:latin typeface="Courier New"/>
              </a:rPr>
              <a:t>//acquisizione delle misure e previsione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void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update(Subject s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measuredTemp = s.getTemperatur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measuredHum = s.getHumidity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measuredPress = s.getPressure();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predict();showPrediction()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void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predict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8000"/>
                </a:solidFill>
                <a:latin typeface="Courier New"/>
              </a:rPr>
              <a:t>//si effettuano previsioni</a:t>
            </a:r>
            <a:r>
              <a:rPr b="0" lang="it-IT" sz="1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8000"/>
                </a:solidFill>
                <a:latin typeface="Courier New"/>
              </a:rPr>
              <a:t>//sulla base delle condizioni attuali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void</a:t>
            </a:r>
            <a:r>
              <a:rPr b="0" lang="it-IT" sz="1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showPrediction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8000"/>
                </a:solidFill>
                <a:latin typeface="Courier New"/>
              </a:rPr>
              <a:t>//visualizzazione le previsioni meteo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4A5-FB45-4B28-B7AC-1C072BCEB9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Codice d’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1484280"/>
            <a:ext cx="7129440" cy="4143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class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SprinklerManager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implements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Observer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rivate double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measuredTe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rivate double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measuredHu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rivate double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measuredPr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8000"/>
                </a:solidFill>
                <a:latin typeface="Courier New"/>
              </a:rPr>
              <a:t>//riferimenti agli irriga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 Display(...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8000"/>
                </a:solidFill>
                <a:latin typeface="Courier New"/>
              </a:rPr>
              <a:t>//acquisizione delle mi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8000"/>
                </a:solidFill>
                <a:latin typeface="Courier New"/>
              </a:rPr>
              <a:t>//inizializzazione riferimenti agli irrigatori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void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update(Subject s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measuredTemp = s.getTemperatur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measuredHum = s.getHumidity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measuredPress = s.getPressur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manageSprinkler()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void</a:t>
            </a:r>
            <a:r>
              <a:rPr b="0" lang="it-IT" sz="1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manageSprinkler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400" spc="-1" strike="noStrike">
                <a:solidFill>
                  <a:srgbClr val="008000"/>
                </a:solidFill>
                <a:latin typeface="Courier New"/>
              </a:rPr>
              <a:t>//decide cosa fare sulla base delle condizioni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765-9648-48DA-A3DD-7C6CF86CCA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Motiv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2276640"/>
            <a:ext cx="8064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emp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zare una classe che rappresenti un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zione meteorologi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grado di misur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midit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sione atmosferi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realizzare, in seguito, una classe che rappresenti u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grado d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rare le condizioni atmosferic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urate dalla st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BD6-FDA6-488B-8DD4-CCC36ED38E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Utilizzi n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Gestori di interfacce graf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ibrerie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Java AWT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S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NB esistono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Observabl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ramework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Microsoft 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l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estione di eventi di alarm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ltri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48320" y="1965240"/>
            <a:ext cx="3379680" cy="1217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380360" y="263700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java.aw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80360" y="462456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19640" y="3429000"/>
            <a:ext cx="2232000" cy="15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02D0-EFE5-4C72-884C-5EAEC5CD458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Pattern correl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odel-View-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elazione fra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mode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view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uò essere espressa mediante una relazione tipo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B580-7DB9-488B-AEF8-8FEC1F28D7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Motiv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Implementa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classe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WeatherStation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ha un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ttribut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i tipo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gni volta” ch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ambiano le condizioni atmosferich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i invoca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measurmentChange(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ch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ggiorna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’attributo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disp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ad esempio come ultima istruzione di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setParam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37160" y="2525760"/>
            <a:ext cx="4038480" cy="198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4FF-FC62-471E-B890-CAFEA5CBD6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Motiv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34136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stensi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giungere, a quanto già prodotto, una classe in grado d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egui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sualizz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evisioni meteorologic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lla base delle condizioni atmosferiche correnti (NB ogni volta che le condizioni cambiano, la previsione potrebbe cambia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530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È stato necessario </a:t>
            </a: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modificar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</a:rPr>
              <a:t> la classe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</a:rPr>
              <a:t>Weather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3960720" cy="24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934-7F43-4FB3-9ABD-39216EE7ED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Motiv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341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ltra estensi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giungere, a quanto già prodotto, una classe che rappresenti un gestore di irrigatori, in grado di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ttivare (o disattivare) degli irrigato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n base alle condizioni atmosferiche attu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5300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ncora </a:t>
            </a: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modifich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</a:rPr>
              <a:t> alla classe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</a:rPr>
              <a:t>Weather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a notare il </a:t>
            </a:r>
            <a:r>
              <a:rPr b="0" lang="it-IT" sz="1800" spc="-1" strike="noStrike">
                <a:solidFill>
                  <a:srgbClr val="333399"/>
                </a:solidFill>
                <a:latin typeface="Times New Roman"/>
              </a:rPr>
              <a:t>metodo </a:t>
            </a:r>
            <a:r>
              <a:rPr b="1" i="1" lang="it-IT" sz="1800" spc="-1" strike="noStrike">
                <a:solidFill>
                  <a:srgbClr val="333399"/>
                </a:solidFill>
                <a:latin typeface="Times New Roman"/>
              </a:rPr>
              <a:t>update()</a:t>
            </a:r>
            <a:r>
              <a:rPr b="0" lang="it-IT" sz="1800" spc="-1" strike="noStrike">
                <a:solidFill>
                  <a:srgbClr val="333399"/>
                </a:solidFill>
                <a:latin typeface="Times New Roman"/>
              </a:rPr>
              <a:t> in tutte le classi dipendent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a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Weather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1280" y="2521080"/>
            <a:ext cx="410544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A2D-7CD8-4298-ACA9-340526460A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Motiv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roblem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ciascu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uovo ogget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interessato alle condizioni atmosferiche, è necessario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modificare la class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WeatherStatio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no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possibile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aggiungere dinamicamente oggett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pendenti dalle condizioni atmosferi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Vorremmo poter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ggiunger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dinamicament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osservator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elle condizioni atmosferiche, </a:t>
            </a:r>
            <a:r>
              <a:rPr b="1" lang="it-IT" sz="2800" spc="-1" strike="noStrike" u="sng">
                <a:solidFill>
                  <a:srgbClr val="333399"/>
                </a:solidFill>
                <a:uFillTx/>
                <a:latin typeface="Times New Roman"/>
              </a:rPr>
              <a:t>senza modifiche alle classi già esist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967B-0C6C-45B9-B6C1-07BD6DC686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Motiv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mplementata dai vari “osservatori” (metod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pdate(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WeatherStatio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h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ttributi e metod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ereditati) per gestire l’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ggiornamento degli “osservator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ssibilità di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odificar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namicamen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i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numero di “osservator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341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mplementazione con pattern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381720" cy="279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01D2-51FC-4081-B5B7-765884274E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Times New Roman"/>
              </a:rPr>
              <a:t>Observer</a:t>
            </a:r>
            <a:r>
              <a:rPr b="1" lang="it-IT" sz="4400" spc="-1" strike="noStrike">
                <a:solidFill>
                  <a:srgbClr val="333399"/>
                </a:solidFill>
                <a:latin typeface="Times New Roman"/>
              </a:rPr>
              <a:t>: Motiv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ri esemp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i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ormati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stione di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nterfacce graf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getti che dipendono dagl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venti che accadono sull’interfaccia 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i ne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oglio di calc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pendenza del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lo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 da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mbiamenti di valore di una cell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grafici, funzioni, altre cel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 pattern Obser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5B1-71F9-4362-A716-4B4A71FCC7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5:12:13Z</dcterms:created>
  <dc:creator>Davide Ferrari</dc:creator>
  <dc:description/>
  <dc:language>en-US</dc:language>
  <cp:lastModifiedBy>Davide Ferrari</cp:lastModifiedBy>
  <dcterms:modified xsi:type="dcterms:W3CDTF">2010-02-03T21:45:00Z</dcterms:modified>
  <cp:revision>49</cp:revision>
  <dc:subject/>
  <dc:title>Il pattern Observer</dc:title>
</cp:coreProperties>
</file>