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E115-F591-4EC6-8B3F-22633EC46A1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 Factory unico pattern “creazionale” tra quelli che vedr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configurazione avverrà sempre attraverso l’unico punto del codice in cui, come abbiamo visto, deve comparire il nome della concrete fa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 quando si adotta un oggetto di una famiglia, si adotta una concrete factory e quindi tutti gli oggetti ad esso correl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on è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esponsabilità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l client conoscerli!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della factory concr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 trovato questa possibile implementazione, che sfrutta il metodo getInstance() del pattern Singleton, in cui viene effettuata la lettura da una proprietà di sist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vocando il metodo, statico, si ottiene, tramite la lettura di una proprietà di sistema di nome “jclassname”, il riferimento a un’istanza delle sottoclassi concrete. Se l’istanza esiste già viene restituita quel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ossibilità di definire Factory estendibili la vedremo a breve nelle possibili implementazio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ton e Prototyp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i vediamo a bre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type è comodo se le famiglie di prodotti sono molto simili tra loro, un prodotto può cambiare settando in modo diverso pochi paramet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iù facile in linguaggi con tipizzazione dinamica come Small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Java e C++ sono a tipizzazione statica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variabili non possono cambiare tipo run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biamo già visto una possibile implementazione del codice del metodo getInstance(). Qui è più gen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o punt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ndere portabile un’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z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l’ambito della CREAZIONE DI OGGETTI, Client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impara a conoscere ed us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un’entità, una classe “Factory”, che fornisce i metodi per creare dei prodotti cui il Client è interess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figura la factory produce “widget”, oggetti grafici, come finestre e scroll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troduzione di un’entità detta Abstract Factory, tra Client e la Factory concreta. Qui è rappresentata dalla bella opera di Dorothy Winslade, del 194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bstract Factory definisce l’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interfacci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i metodi sempre uguali attraverso cui il Cliente potrà creare gli oggetti prodot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d un’invocazione di un metodo essa però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elega la creazio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dell’oggetto prodotto ad una Concrete Factory. Le Concrete Factory possono essere molte, ma tutte sono “utilizzabili” tramite l’interfaccia fornita dall’Abstract Factory. A quale di queste Factory verrà delegata l’esecuzione del metodo lo vedremo a bre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gni Concrete Factory è responsabile della creazione di un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et coerente di prodot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di una famiglia di oggetti correlati, nell’esempio di tutti gli oggetti di un particolare “look-and-feel”(Go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un linguaggio di programmazione a oggetti, l’Abstract Factory diventa un’interfaccia o una classe astratta, e le Concrete Factory la derivano, sovrascrivendo i suoi meto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li oggetti che produrranno saranno istanze di classi derivate dalla generica classe astratta “Window” o “ScrollBar”, che a sua volta fornirà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un’interfaccia per le operazioni sull’oggett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ncreto. Ogni classe prodotto concreto dovrà, secondo lo stesso schema, sovrascrivere i metodi definiti dal prodotto astra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a notare che la classe Client, grazie a questa struttura, non “vede” le factory concrete e i loro metodi, non è tenuto a conoscerli, né le classi concrete di tutti i prodot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Client “vede” semplicemente le classi astratte(o interfacce) di Factory e prodotti, ed utilizza esclusivamente queste come tipi stati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razie al polimorfismo, i tipi dinamici che vengono assegnati alle variabili del client saranno diversi dai tipi statici, saranno le classi Factory e Prodotto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invocazioni da parte del client ai metodi delle classi astratte provocheranno la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eleg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ai metodi delle classi concrete deriv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d esempio all’invocazione dei metodi CreateWindow() e CreateScrollBar() invocati sull’oggetto wf, verranno eseguiti dinamicamente(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binding dinamic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 i metodi della Factory concreta, PMWidgetFa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cco, questo è l’</a:t>
            </a:r>
            <a:r>
              <a:rPr b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unico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punto di tutto il codice dove compare il nome della classe factory concreta, dove il client è tenuto a conoscerne il nome. Come vedremo in seguito, in realtà questo nome può essere ottenuto da parametri di configurazione esterni, e può essere cambiato facilmente switchando la famiglia di prodotti in u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schema UML generale del pattern, applicabile in diverse situazioni, di cui abbiamo già visto i partecipan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associazioni generiche tra client e Abstract Factory e Abstract Product potrebbero essere viste come aggregazio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empio gestione dati relativi a giochi di vario t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sto esempio, grazie al pattern Abstract Factory, si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her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l client Tournament(o League) dalle specifiche di ogni gio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nament istanzierà una concrete factory per ogni gio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bstract factory Game fornisce l’interfaccia univoca per la creazione di Match e Statistic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à all’interno degli oggetti concreti TTTMatch e ChessMatch che saranno definite le regole del gioco e sarà tenuta traccia dello stato della partita. Gli oggetti derivati da Statistics invece terranno traccia delle statistiche nell’ambito del Tourna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 come ci suggerisce il buon Yoda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d esempio il framework ET++ sfrutta il pattern Abstract Factory per garantire portabilità su diversi sistemi a finestre(X e SunView per esempi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T++ is a portable application framework, used to make platform-independent GUI-based application program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709-56DC-4335-B6D1-ACB22049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E5B-5F1E-4909-91A8-65E07305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BFB-F3B2-41EA-8F99-FED4681A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39E-523D-42F3-9531-1FA38A59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5CE-F7C2-4FA2-9604-820F04D7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D6C-AD31-4FCF-9911-C8C384EA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E33-C27E-4E1F-A545-C7ED2426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852-CC77-414A-BBCE-CC7C83C7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455-8D82-4AD1-B054-CC28961E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6B3-9152-4CA7-9768-9A6BFDD2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EFF-08FF-4102-B29B-5C3F7188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0C7-35B8-42B9-BBFC-594B3CCC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072D-9AF2-4277-AD42-B83FB3033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cola.segnali@gmail.co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3628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Design Patterns:</a:t>
            </a:r>
            <a:br>
              <a:rPr sz="4400"/>
            </a:b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Abstract</a:t>
            </a:r>
            <a:br>
              <a:rPr sz="4400"/>
            </a:b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Fa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83664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840" y="622476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6"/>
                </a:solidFill>
                <a:latin typeface="Comic Sans MS"/>
              </a:rPr>
              <a:t>Nicola Segnali</a:t>
            </a:r>
            <a:r>
              <a:rPr b="0" lang="en-US" sz="1800" spc="-1" strike="noStrike">
                <a:solidFill>
                  <a:srgbClr val="000086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98360" y="6321600"/>
            <a:ext cx="182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6229440"/>
            <a:ext cx="2952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nicola.segnali@gmail.com</a:t>
            </a:r>
            <a:r>
              <a:rPr b="0" lang="en-US" sz="1800" spc="-1" strike="noStrike" u="sng">
                <a:solidFill>
                  <a:srgbClr val="000086"/>
                </a:solidFill>
                <a:uFillTx/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000086"/>
                </a:solidFill>
                <a:uFillTx/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260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mic Sans MS"/>
              </a:rPr>
              <a:t>- INGEGNERIA DEL SOFTWARE B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BF1-0CD6-4A70-99F2-9858596A52B0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Applicabil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100000"/>
              </a:lnSpc>
              <a:spcBef>
                <a:spcPts val="649"/>
              </a:spcBef>
              <a:buClr>
                <a:srgbClr val="000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6"/>
                </a:solidFill>
                <a:latin typeface="Tahoma"/>
              </a:rPr>
              <a:t>Un sistema deve poter essere configurato scegliendo una tra più famiglie di prodott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49"/>
              </a:spcBef>
              <a:buClr>
                <a:srgbClr val="000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6"/>
                </a:solidFill>
                <a:latin typeface="Tahoma"/>
              </a:rPr>
              <a:t>Esistono famiglie di oggetti correlati, progettati per essere utilizzati insieme, e occorre garantire che questo vincolo sia rispettat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649"/>
              </a:spcBef>
              <a:buClr>
                <a:srgbClr val="000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6"/>
                </a:solidFill>
                <a:latin typeface="Tahoma"/>
              </a:rPr>
              <a:t>Si vuole fornire una libreria di classi, rivelando soltanto le loro interfacce e non le loro implementazio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8DF-AE77-4C2D-9321-5DDDE277D35A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Conseguenze del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649"/>
              </a:spcBef>
              <a:buClr>
                <a:srgbClr val="000086"/>
              </a:buClr>
              <a:buSzPct val="12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86"/>
                </a:solidFill>
                <a:uFillTx/>
                <a:latin typeface="Tahoma"/>
              </a:rPr>
              <a:t>Isola le classi concrete degli oggetti prodot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Il client manipola le istanze degli oggetti prodotto soltanto attraverso le loro interfacce astratte, non ne conosce i tipi dinamic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La factory concreta incapsula la responsabilità e il processo di creazione di oggetti prodot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00080" y="4313160"/>
            <a:ext cx="1297080" cy="5032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436572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6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64080" y="5035680"/>
            <a:ext cx="1989000" cy="43164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51120" y="51069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86"/>
                </a:solidFill>
                <a:latin typeface="Tahoma"/>
              </a:rPr>
              <a:t>AbstractProdu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311" idx="3"/>
            <a:endCxn id="313" idx="1"/>
          </p:cNvCxnSpPr>
          <p:nvPr/>
        </p:nvCxnSpPr>
        <p:spPr>
          <a:xfrm>
            <a:off x="2296800" y="4565160"/>
            <a:ext cx="1367640" cy="686520"/>
          </a:xfrm>
          <a:prstGeom prst="bentConnector3">
            <a:avLst>
              <a:gd name="adj1" fmla="val 49921"/>
            </a:avLst>
          </a:prstGeom>
          <a:ln w="9360">
            <a:solidFill>
              <a:srgbClr val="000086"/>
            </a:solidFill>
            <a:miter/>
            <a:tailEnd len="lg" type="arrow" w="lg"/>
          </a:ln>
        </p:spPr>
      </p:cxnSp>
      <p:sp>
        <p:nvSpPr>
          <p:cNvPr id="316" name=""/>
          <p:cNvSpPr/>
          <p:nvPr/>
        </p:nvSpPr>
        <p:spPr>
          <a:xfrm>
            <a:off x="2297160" y="4264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2000" y="4941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37080" y="5864400"/>
            <a:ext cx="2016000" cy="43164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37080" y="593568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86"/>
                </a:solidFill>
                <a:latin typeface="Tahoma"/>
              </a:rPr>
              <a:t>AbstractProduc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5778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1" idx="3"/>
            <a:endCxn id="318" idx="1"/>
          </p:cNvCxnSpPr>
          <p:nvPr/>
        </p:nvCxnSpPr>
        <p:spPr>
          <a:xfrm>
            <a:off x="2297160" y="4565160"/>
            <a:ext cx="1340640" cy="1515240"/>
          </a:xfrm>
          <a:prstGeom prst="bentConnector3">
            <a:avLst>
              <a:gd name="adj1" fmla="val 49879"/>
            </a:avLst>
          </a:prstGeom>
          <a:ln w="9360">
            <a:solidFill>
              <a:srgbClr val="000086"/>
            </a:solidFill>
            <a:miter/>
            <a:tailEnd len="lg" type="arrow" w="lg"/>
          </a:ln>
        </p:spPr>
      </p:cxnSp>
      <p:sp>
        <p:nvSpPr>
          <p:cNvPr id="322" name=""/>
          <p:cNvSpPr/>
          <p:nvPr/>
        </p:nvSpPr>
        <p:spPr>
          <a:xfrm>
            <a:off x="6983280" y="5051520"/>
            <a:ext cx="1366920" cy="431640"/>
          </a:xfrm>
          <a:prstGeom prst="rect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656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54920" y="50958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ff"/>
                </a:solidFill>
                <a:latin typeface="Tahoma"/>
              </a:rPr>
              <a:t>Product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5673600" y="5157720"/>
            <a:ext cx="21600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656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2" idx="1"/>
            <a:endCxn id="324" idx="3"/>
          </p:cNvCxnSpPr>
          <p:nvPr/>
        </p:nvCxnSpPr>
        <p:spPr>
          <a:xfrm rot="10800000">
            <a:off x="5888880" y="5265000"/>
            <a:ext cx="1094400" cy="2160"/>
          </a:xfrm>
          <a:prstGeom prst="bentConnector3">
            <a:avLst>
              <a:gd name="adj1" fmla="val 49917"/>
            </a:avLst>
          </a:prstGeom>
          <a:ln w="12600">
            <a:solidFill>
              <a:srgbClr val="6565ff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6975360" y="5862600"/>
            <a:ext cx="1366920" cy="432000"/>
          </a:xfrm>
          <a:prstGeom prst="rect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656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047000" y="59007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565ff"/>
                </a:solidFill>
                <a:latin typeface="Tahoma"/>
              </a:rPr>
              <a:t>Product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5665680" y="5972040"/>
            <a:ext cx="21600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656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1"/>
            <a:endCxn id="328" idx="3"/>
          </p:cNvCxnSpPr>
          <p:nvPr/>
        </p:nvCxnSpPr>
        <p:spPr>
          <a:xfrm flipV="1" rot="10800000">
            <a:off x="5880960" y="6078240"/>
            <a:ext cx="1094400" cy="2160"/>
          </a:xfrm>
          <a:prstGeom prst="bentConnector3">
            <a:avLst>
              <a:gd name="adj1" fmla="val 49917"/>
            </a:avLst>
          </a:prstGeom>
          <a:ln w="12600">
            <a:solidFill>
              <a:srgbClr val="6565ff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578-D3BA-4479-98FD-6851CA33E024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Conseguenze del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42472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649"/>
              </a:spcBef>
              <a:buClr>
                <a:srgbClr val="000086"/>
              </a:buClr>
              <a:buSzPct val="120000"/>
              <a:buFont typeface="Wingdings" charset="2"/>
              <a:buChar char="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86"/>
                </a:solidFill>
                <a:uFillTx/>
                <a:latin typeface="Tahoma"/>
              </a:rPr>
              <a:t>Consente di cambiare in modo semplice la famiglia di prodotti utilizz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La scelta di una factory concreta, effettuata in un unico punto del codice, seleziona un’intera famiglia di prodot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Possibilità d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lnSpc>
                <a:spcPct val="100000"/>
              </a:lnSpc>
              <a:spcBef>
                <a:spcPts val="550"/>
              </a:spcBef>
              <a:buClr>
                <a:srgbClr val="000086"/>
              </a:buClr>
              <a:buSzPct val="120000"/>
              <a:buFont typeface="Tahoma"/>
              <a:buChar char="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Sostituzione della famiglia run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lnSpc>
                <a:spcPct val="100000"/>
              </a:lnSpc>
              <a:spcBef>
                <a:spcPts val="550"/>
              </a:spcBef>
              <a:buClr>
                <a:srgbClr val="000086"/>
              </a:buClr>
              <a:buSzPct val="120000"/>
              <a:buFont typeface="Tahoma"/>
              <a:buChar char="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Lettura da una proprietà di sistema del nome della sottoclasse Factory da istanzi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5013360"/>
            <a:ext cx="5832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effettuata da </a:t>
            </a:r>
            <a:r>
              <a:rPr b="1" i="1" lang="it-IT" sz="2200" spc="-1" strike="noStrike">
                <a:solidFill>
                  <a:srgbClr val="000086"/>
                </a:solidFill>
                <a:latin typeface="Tahoma"/>
              </a:rPr>
              <a:t>java.awt.toolkit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, una classe astratta abstract factory per la creazione di famiglie di elementi GUI per diversi sistemi operat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3280" y="5051520"/>
            <a:ext cx="936720" cy="431640"/>
          </a:xfrm>
          <a:custGeom>
            <a:avLst/>
            <a:gdLst>
              <a:gd name="textAreaLeft" fmla="*/ 146160 w 936720"/>
              <a:gd name="textAreaRight" fmla="*/ 819720 w 936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66ff">
              <a:alpha val="72000"/>
            </a:srgbClr>
          </a:solidFill>
          <a:ln w="1584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786-455C-4BBB-822B-A8814E226E94}" type="slidenum">
              <a:t>12</a:t>
            </a:fld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86"/>
                </a:solidFill>
                <a:latin typeface="Comic Sans MS"/>
              </a:rPr>
              <a:t>Una possibile implementazion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33600" y="5478480"/>
            <a:ext cx="1922400" cy="7588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11280" y="54910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ConcreteFactor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92280" y="5834160"/>
            <a:ext cx="18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33600" y="5835600"/>
            <a:ext cx="192240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1080" y="5478480"/>
            <a:ext cx="1989000" cy="7588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8360" y="5487840"/>
            <a:ext cx="20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ConcreteFactor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46240" y="5834160"/>
            <a:ext cx="19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1080" y="5835600"/>
            <a:ext cx="198756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>
            <a:stCxn id="341" idx="0"/>
            <a:endCxn id="346" idx="3"/>
          </p:cNvCxnSpPr>
          <p:nvPr/>
        </p:nvCxnSpPr>
        <p:spPr>
          <a:xfrm flipH="1" flipV="1" rot="5400000">
            <a:off x="1502280" y="4740840"/>
            <a:ext cx="411840" cy="1064160"/>
          </a:xfrm>
          <a:prstGeom prst="bentConnector3">
            <a:avLst>
              <a:gd name="adj1" fmla="val 49781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346" name=""/>
          <p:cNvSpPr/>
          <p:nvPr/>
        </p:nvSpPr>
        <p:spPr>
          <a:xfrm>
            <a:off x="2139840" y="4859280"/>
            <a:ext cx="200160" cy="208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37" idx="0"/>
            <a:endCxn id="346" idx="3"/>
          </p:cNvCxnSpPr>
          <p:nvPr/>
        </p:nvCxnSpPr>
        <p:spPr>
          <a:xfrm flipV="1" rot="16200000">
            <a:off x="2611800" y="4694400"/>
            <a:ext cx="411840" cy="1156320"/>
          </a:xfrm>
          <a:prstGeom prst="bentConnector3">
            <a:avLst>
              <a:gd name="adj1" fmla="val 49781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3481200" y="3817800"/>
            <a:ext cx="9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3720" y="3414600"/>
            <a:ext cx="3098880" cy="14446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9120" y="3457440"/>
            <a:ext cx="30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86"/>
                </a:solidFill>
                <a:latin typeface="Tahoma"/>
              </a:rPr>
              <a:t>Abstract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9120" y="4276800"/>
            <a:ext cx="290808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getInstanc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3720" y="3776760"/>
            <a:ext cx="309888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720" y="4154400"/>
            <a:ext cx="309888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0320" y="379872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IAbstractFactory instan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6960" y="1628640"/>
            <a:ext cx="3098880" cy="103212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960" y="1671480"/>
            <a:ext cx="30034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86"/>
                </a:solidFill>
                <a:latin typeface="Tahoma"/>
              </a:rPr>
              <a:t>&lt;&lt;interface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86"/>
                </a:solidFill>
                <a:latin typeface="Tahoma"/>
              </a:rPr>
              <a:t>IAbstract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77960" y="2316240"/>
            <a:ext cx="2906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6960" y="2247840"/>
            <a:ext cx="309888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52800" y="2657520"/>
            <a:ext cx="198360" cy="206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"/>
          <p:cNvCxnSpPr>
            <a:stCxn id="349" idx="0"/>
            <a:endCxn id="359" idx="3"/>
          </p:cNvCxnSpPr>
          <p:nvPr/>
        </p:nvCxnSpPr>
        <p:spPr>
          <a:xfrm flipV="1">
            <a:off x="2243160" y="2863440"/>
            <a:ext cx="10080" cy="551520"/>
          </a:xfrm>
          <a:prstGeom prst="straightConnector1">
            <a:avLst/>
          </a:prstGeom>
          <a:ln w="12600">
            <a:solidFill>
              <a:srgbClr val="000086"/>
            </a:solidFill>
            <a:miter/>
          </a:ln>
        </p:spPr>
      </p:cxnSp>
      <p:cxnSp>
        <p:nvCxnSpPr>
          <p:cNvPr id="361" name=""/>
          <p:cNvCxnSpPr>
            <a:stCxn id="349" idx="3"/>
            <a:endCxn id="356" idx="3"/>
          </p:cNvCxnSpPr>
          <p:nvPr/>
        </p:nvCxnSpPr>
        <p:spPr>
          <a:xfrm flipH="1" flipV="1">
            <a:off x="3780720" y="1963080"/>
            <a:ext cx="11880" cy="2174040"/>
          </a:xfrm>
          <a:prstGeom prst="bentConnector3">
            <a:avLst>
              <a:gd name="adj1" fmla="val -2056250"/>
            </a:avLst>
          </a:prstGeom>
          <a:ln w="12600">
            <a:solidFill>
              <a:srgbClr val="000086"/>
            </a:solidFill>
            <a:miter/>
            <a:tailEnd len="lg" type="arrow" w="lg"/>
          </a:ln>
        </p:spPr>
      </p:cxnSp>
      <p:sp>
        <p:nvSpPr>
          <p:cNvPr id="362" name=""/>
          <p:cNvSpPr/>
          <p:nvPr/>
        </p:nvSpPr>
        <p:spPr>
          <a:xfrm>
            <a:off x="3481200" y="1636560"/>
            <a:ext cx="9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716360" y="2131560"/>
            <a:ext cx="4319640" cy="4105440"/>
          </a:xfrm>
          <a:prstGeom prst="foldedCorner">
            <a:avLst>
              <a:gd name="adj" fmla="val 12500"/>
            </a:avLst>
          </a:prstGeom>
          <a:noFill/>
          <a:ln w="1260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73600" y="2255760"/>
            <a:ext cx="43704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71360"/>
                <a:tab algn="l" pos="3618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public static IAbstractFactory getInstanc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71360"/>
                <a:tab algn="l" pos="3618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71360"/>
                <a:tab algn="l" pos="3618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if(instance =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71360"/>
                <a:tab algn="l" pos="3618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71360"/>
                <a:tab algn="l" pos="3618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String factoryClassName = System.getProperty(“jclassname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71360"/>
                <a:tab algn="l" pos="3618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Class c = Class.forName(factoryClass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71360"/>
                <a:tab algn="l" pos="3618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instance = (IAbstractFactory)c.newInstanc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71360"/>
                <a:tab algn="l" pos="3618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71360"/>
                <a:tab algn="l" pos="3618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return instan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71360"/>
                <a:tab algn="l" pos="3618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2268360" y="4437000"/>
            <a:ext cx="2448000" cy="287280"/>
          </a:xfrm>
          <a:prstGeom prst="line">
            <a:avLst/>
          </a:prstGeom>
          <a:ln w="12600">
            <a:solidFill>
              <a:srgbClr val="00008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ECB-3B8A-4D66-BAED-8CCE8E6854EC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Conseguenze del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649"/>
              </a:spcBef>
              <a:buClr>
                <a:srgbClr val="000086"/>
              </a:buClr>
              <a:buSzPct val="12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86"/>
                </a:solidFill>
                <a:uFillTx/>
                <a:latin typeface="Tahoma"/>
              </a:rPr>
              <a:t>Promuove la coerenza nell’utilizzo dei prodot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L’uso di una factory per volta porta questo vantaggio implici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86"/>
                </a:solidFill>
                <a:uFillTx/>
                <a:latin typeface="Tahoma"/>
              </a:rPr>
              <a:t>L’aggiunta del supporto per nuove tipologie di prodotti è diffic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Il set di prodotti è determinato dall’interfaccia Abstract Factory. Una sua estensione implica la modifica di tutte le sue sottoclassi concr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Factory estendibil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3CD-A4BD-4918-BF27-B16CA771AF06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6680" indent="-436680">
              <a:lnSpc>
                <a:spcPct val="100000"/>
              </a:lnSpc>
              <a:spcBef>
                <a:spcPts val="649"/>
              </a:spcBef>
              <a:buClr>
                <a:srgbClr val="000086"/>
              </a:buClr>
              <a:buSzPct val="110000"/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86"/>
                </a:solidFill>
                <a:latin typeface="Tahoma"/>
              </a:rPr>
              <a:t>Factory come Singlet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Normalmente è richiesta un’unica istanza della concrete factory, abitualmente implementata utilizzando il pattern Singlet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100000"/>
              </a:lnSpc>
              <a:spcBef>
                <a:spcPts val="649"/>
              </a:spcBef>
              <a:buClr>
                <a:srgbClr val="000086"/>
              </a:buClr>
              <a:buSzPct val="110000"/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86"/>
                </a:solidFill>
                <a:latin typeface="Tahoma"/>
              </a:rPr>
              <a:t>Creazione dei prodot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Due possibilità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6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1. Definire un metodo factory per la produzione di ciascun 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prodotto, che ogni factory concreta ridefinis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6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2. La factory concreta può essere implementata utilizzando il 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pattern Prototype. Viene cioè inizializzata con un’istanza 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prototipo di ciascun prodotto della famiglia, e la creazione di 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nuovi prodotti è effettuata clonando tali prototipi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E2C-E20A-418F-94CC-9E1CD3B56B9B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4247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lnSpc>
                <a:spcPct val="100000"/>
              </a:lnSpc>
              <a:spcBef>
                <a:spcPts val="649"/>
              </a:spcBef>
              <a:buClr>
                <a:srgbClr val="000086"/>
              </a:buClr>
              <a:buSzPct val="110000"/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86"/>
                </a:solidFill>
                <a:latin typeface="Tahoma"/>
              </a:rPr>
              <a:t>Definire factory estendibil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Approccio alternativo, </a:t>
            </a:r>
            <a:r>
              <a:rPr b="0" lang="it-IT" sz="2200" spc="-1" strike="noStrike" u="sng">
                <a:solidFill>
                  <a:srgbClr val="000086"/>
                </a:solidFill>
                <a:uFillTx/>
                <a:latin typeface="Tahoma"/>
              </a:rPr>
              <a:t>più flessibile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 ma </a:t>
            </a:r>
            <a:r>
              <a:rPr b="0" lang="it-IT" sz="2200" spc="-1" strike="noStrike" u="sng">
                <a:solidFill>
                  <a:srgbClr val="000086"/>
                </a:solidFill>
                <a:uFillTx/>
                <a:latin typeface="Tahoma"/>
              </a:rPr>
              <a:t>meno sicuro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Si utilizza un singolo metodo </a:t>
            </a:r>
            <a:r>
              <a:rPr b="0" i="1" lang="it-IT" sz="2200" spc="-1" strike="noStrike">
                <a:solidFill>
                  <a:srgbClr val="000086"/>
                </a:solidFill>
                <a:latin typeface="Tahoma"/>
              </a:rPr>
              <a:t>make 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per la creazione degli oggetti, e gli si passa come parametro il tipo di prodotto.   Tutti i prodotti sono però restituiti al client con la stessa interfaccia astratta definita dal valore di ritorno del metodo </a:t>
            </a:r>
            <a:r>
              <a:rPr b="0" i="1" lang="it-IT" sz="2200" spc="-1" strike="noStrike">
                <a:solidFill>
                  <a:srgbClr val="000086"/>
                </a:solidFill>
                <a:latin typeface="Tahoma"/>
              </a:rPr>
              <a:t>make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4838760"/>
            <a:ext cx="842472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10400" indent="-410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86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Il client non sa con certezza la classe effettiva del prodot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0400" indent="-410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86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Per accedere ad operazioni specifiche di un determinato 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prodotto il client deve effettuare una conversione esplicita 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(</a:t>
            </a:r>
            <a:r>
              <a:rPr b="0" i="1" lang="it-IT" sz="2200" spc="-1" strike="noStrike">
                <a:solidFill>
                  <a:srgbClr val="000086"/>
                </a:solidFill>
                <a:latin typeface="Tahoma"/>
              </a:rPr>
              <a:t>downcast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), non sempre fattibile o sic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8720" y="4365720"/>
            <a:ext cx="468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1360" indent="-44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86"/>
                </a:solidFill>
                <a:latin typeface="Courier New"/>
              </a:rPr>
              <a:t>Product make(String 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397400"/>
            <a:ext cx="1224000" cy="328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C6E-4396-4026-8D3E-7523286941E6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Pattern correlati: Single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97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6"/>
                </a:solidFill>
                <a:latin typeface="Tahoma"/>
              </a:rPr>
              <a:t>Il Singleton è un design pattern creazionale, il suo scopo è assicurare che una classe abbia una sola istanza e fornire un punto di accesso globale a tale istan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6"/>
                </a:solidFill>
                <a:latin typeface="Tahoma"/>
              </a:rPr>
              <a:t>E’ spesso usato per implementare le concrete fa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3284640"/>
            <a:ext cx="5689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public class Sing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private static Singolo istanza =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protected Singolo(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public static Singolo getSingolo(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f (istanza == null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istanza = new Singol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return istanz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262080"/>
                <a:tab algn="l" pos="538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27640" y="3716280"/>
            <a:ext cx="23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Tahoma"/>
              </a:rPr>
              <a:t>Impedisco l’istanziazione diretta rendendo protetto il costrutt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759280" y="530064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Tahoma"/>
              </a:rPr>
              <a:t>Fornisco un metodo getter statico che restituisca ogni volta la stessa, unica, istan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0200" y="4237200"/>
            <a:ext cx="1350720" cy="344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52320" y="4692600"/>
            <a:ext cx="4967280" cy="165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66F-69E2-459B-8F7D-5855A4944451}" type="slidenum">
              <a:t>17</a:t>
            </a:fld>
          </a:p>
        </p:txBody>
      </p:sp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Pattern correlati: 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4247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6"/>
                </a:solidFill>
                <a:latin typeface="Tahoma"/>
              </a:rPr>
              <a:t>Il Prototype è un altro pattern creazionale, che gestisce la produzione di nuovi oggetti attraverso la clonazione di istanze protot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5280" y="3645000"/>
            <a:ext cx="8424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3840" y="3141720"/>
            <a:ext cx="367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6"/>
                </a:solidFill>
                <a:latin typeface="Tahoma"/>
              </a:rPr>
              <a:t>Nel pattern Abstract Factory, anche se le varie famiglie di prodotti differiscono tra loro solo leggermente, normalmente è necessario implementare una concrete factory per ogni famig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4994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6"/>
                </a:solidFill>
                <a:latin typeface="Tahoma"/>
              </a:rPr>
              <a:t>Il </a:t>
            </a:r>
            <a:r>
              <a:rPr b="1" lang="en-US" sz="1800" spc="-1" strike="noStrike">
                <a:solidFill>
                  <a:srgbClr val="000086"/>
                </a:solidFill>
                <a:latin typeface="Tahoma"/>
              </a:rPr>
              <a:t>Prototype</a:t>
            </a:r>
            <a:r>
              <a:rPr b="0" lang="en-US" sz="1800" spc="-1" strike="noStrike">
                <a:solidFill>
                  <a:srgbClr val="000086"/>
                </a:solidFill>
                <a:latin typeface="Tahoma"/>
              </a:rPr>
              <a:t> ci consente di usare una sola factory parametrica, contenente le istanze prototipo di tutti i prodotti. La factory utilizzerà questi prototipi per creare di volta in volta gli oggetti richie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427640" y="2681280"/>
            <a:ext cx="3744720" cy="1900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 flipV="1">
            <a:off x="3130560" y="5085720"/>
            <a:ext cx="720720" cy="718920"/>
          </a:xfrm>
          <a:custGeom>
            <a:avLst/>
            <a:gdLst>
              <a:gd name="textAreaLeft" fmla="*/ 0 w 720720"/>
              <a:gd name="textAreaRight" fmla="*/ 721080 w 720720"/>
              <a:gd name="textAreaTop" fmla="*/ -360 h 718920"/>
              <a:gd name="textAreaBottom" fmla="*/ 71892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9C0-B29F-4432-8158-6531EB6CDDB7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Pattern correlati: Faç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6"/>
                </a:solidFill>
                <a:latin typeface="Tahoma"/>
              </a:rPr>
              <a:t>Un design pattern che definisce un'interfaccia unificata attraverso cui accedere all'intero sotto-sistema. I client comunicano con l’oggetto “facciata”, che può essere una classe astratta o concreta, e delega al bisogno ad altri oggetti del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5280" y="4003560"/>
            <a:ext cx="40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6"/>
                </a:solidFill>
                <a:latin typeface="Tahoma"/>
              </a:rPr>
              <a:t>Il pattern Abstract Factory può essere visto come una </a:t>
            </a:r>
            <a:r>
              <a:rPr b="0" lang="en-US" sz="2000" spc="-1" strike="noStrike" u="sng">
                <a:solidFill>
                  <a:srgbClr val="000086"/>
                </a:solidFill>
                <a:uFillTx/>
                <a:latin typeface="Tahoma"/>
              </a:rPr>
              <a:t>variazione creazionale</a:t>
            </a:r>
            <a:r>
              <a:rPr b="0" lang="en-US" sz="2000" spc="-1" strike="noStrike">
                <a:solidFill>
                  <a:srgbClr val="000086"/>
                </a:solidFill>
                <a:latin typeface="Tahoma"/>
              </a:rPr>
              <a:t> del pattern Faç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4716360" y="3348000"/>
            <a:ext cx="3241800" cy="1952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195640" y="5445000"/>
            <a:ext cx="6337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86"/>
                </a:solidFill>
                <a:latin typeface="Tahoma"/>
              </a:rPr>
              <a:t>La classe “facciata” , l’abstract factory, può essere implementata anche come una classe </a:t>
            </a:r>
            <a:r>
              <a:rPr b="0" lang="it-IT" sz="2000" spc="-1" strike="noStrike" u="sng">
                <a:solidFill>
                  <a:srgbClr val="000086"/>
                </a:solidFill>
                <a:uFillTx/>
                <a:latin typeface="Tahoma"/>
              </a:rPr>
              <a:t>concreta</a:t>
            </a:r>
            <a:r>
              <a:rPr b="0" lang="it-IT" sz="2000" spc="-1" strike="noStrike">
                <a:solidFill>
                  <a:srgbClr val="000086"/>
                </a:solidFill>
                <a:latin typeface="Tahoma"/>
              </a:rPr>
              <a:t>, ed operare opzionalmente come concrete fac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116000" y="5157720"/>
            <a:ext cx="720720" cy="719280"/>
          </a:xfrm>
          <a:custGeom>
            <a:avLst/>
            <a:gdLst>
              <a:gd name="textAreaLeft" fmla="*/ 0 w 720720"/>
              <a:gd name="textAreaRight" fmla="*/ 721080 w 720720"/>
              <a:gd name="textAreaTop" fmla="*/ 360 h 719280"/>
              <a:gd name="textAreaBottom" fmla="*/ 72000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100000">
                <a:srgbClr val="00003d"/>
              </a:gs>
            </a:gsLst>
            <a:lin ang="5400000"/>
          </a:gra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80C-C355-4CDD-BF67-01D1E4467EF4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Sc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4960">
              <a:lnSpc>
                <a:spcPct val="100000"/>
              </a:lnSpc>
              <a:spcBef>
                <a:spcPts val="649"/>
              </a:spcBef>
              <a:buClr>
                <a:srgbClr val="00008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86"/>
                </a:solidFill>
                <a:latin typeface="Tahoma"/>
              </a:rPr>
              <a:t>Fornire un’</a:t>
            </a:r>
            <a:r>
              <a:rPr b="0" lang="it-IT" sz="2600" spc="-1" strike="noStrike" u="sng">
                <a:solidFill>
                  <a:srgbClr val="000086"/>
                </a:solidFill>
                <a:uFillTx/>
                <a:latin typeface="Tahoma"/>
              </a:rPr>
              <a:t>interfaccia</a:t>
            </a:r>
            <a:r>
              <a:rPr b="0" lang="it-IT" sz="2600" spc="-1" strike="noStrike">
                <a:solidFill>
                  <a:srgbClr val="000086"/>
                </a:solidFill>
                <a:latin typeface="Tahoma"/>
              </a:rPr>
              <a:t> per la creazione di famiglie di oggetti correlati o dipendenti senza specificare quali siano le loro classi concrete.</a:t>
            </a:r>
            <a:r>
              <a:rPr b="0" i="1" lang="it-IT" sz="2600" spc="-1" strike="noStrike">
                <a:solidFill>
                  <a:srgbClr val="000086"/>
                </a:solidFill>
                <a:latin typeface="Tahoma"/>
              </a:rPr>
              <a:t>(Go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649"/>
              </a:spcBef>
              <a:buClr>
                <a:srgbClr val="00008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86"/>
                </a:solidFill>
                <a:uFillTx/>
                <a:latin typeface="Tahoma"/>
              </a:rPr>
              <a:t>Schermare</a:t>
            </a:r>
            <a:r>
              <a:rPr b="0" lang="it-IT" sz="2600" spc="-1" strike="noStrike">
                <a:solidFill>
                  <a:srgbClr val="000086"/>
                </a:solidFill>
                <a:latin typeface="Tahoma"/>
              </a:rPr>
              <a:t> programmi client da differenti piattaforme che forniscono differenti implementazioni per uno stesso insieme di concet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18D-1111-4025-A0D4-D7CE7F2DA25F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362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86"/>
                </a:solidFill>
                <a:latin typeface="Monotype Corsiva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8360" y="765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8360" y="5950080"/>
            <a:ext cx="8424720" cy="21564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198360" y="6321600"/>
            <a:ext cx="182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5003640" y="515772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00720" y="4653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E9C-AE39-4750-832A-4DE6FD0E44CF}" type="slidenum">
              <a:t>20</a:t>
            </a:fld>
          </a:p>
        </p:txBody>
      </p:sp>
    </p:spTree>
  </p:cSld>
  <p:transition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4745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86"/>
                </a:solidFill>
                <a:latin typeface="Comic Sans MS"/>
              </a:rPr>
              <a:t>Una tipica applicazio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1593720" cy="208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227640" y="1773360"/>
            <a:ext cx="793800" cy="1441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84720" y="3213000"/>
            <a:ext cx="1295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32130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320832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Widget Fa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2638440"/>
            <a:ext cx="2304720" cy="287280"/>
          </a:xfrm>
          <a:prstGeom prst="leftArrow">
            <a:avLst>
              <a:gd name="adj1" fmla="val 50000"/>
              <a:gd name="adj2" fmla="val 200564"/>
            </a:avLst>
          </a:prstGeom>
          <a:gradFill rotWithShape="0">
            <a:gsLst>
              <a:gs pos="0">
                <a:srgbClr val="000086"/>
              </a:gs>
              <a:gs pos="100000">
                <a:srgbClr val="0000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411280" y="3573360"/>
            <a:ext cx="6551640" cy="2052720"/>
            <a:chOff x="2411280" y="3573360"/>
            <a:chExt cx="6551640" cy="2052720"/>
          </a:xfrm>
        </p:grpSpPr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7451640" y="3573360"/>
              <a:ext cx="151128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7093080" y="4149720"/>
              <a:ext cx="151128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6372360" y="4581360"/>
              <a:ext cx="1511280" cy="10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411280" y="3645000"/>
              <a:ext cx="4392720" cy="576000"/>
            </a:xfrm>
            <a:custGeom>
              <a:avLst/>
              <a:gdLst/>
              <a:ahLst/>
              <a:rect l="l" t="t" r="r" b="b"/>
              <a:pathLst>
                <a:path w="1564" h="590">
                  <a:moveTo>
                    <a:pt x="68" y="0"/>
                  </a:moveTo>
                  <a:cubicBezTo>
                    <a:pt x="34" y="178"/>
                    <a:pt x="0" y="356"/>
                    <a:pt x="249" y="454"/>
                  </a:cubicBezTo>
                  <a:cubicBezTo>
                    <a:pt x="498" y="552"/>
                    <a:pt x="1031" y="571"/>
                    <a:pt x="1564" y="590"/>
                  </a:cubicBezTo>
                </a:path>
              </a:pathLst>
            </a:custGeom>
            <a:noFill/>
            <a:ln w="63360">
              <a:solidFill>
                <a:srgbClr val="00008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124000" y="3645000"/>
            <a:ext cx="5614920" cy="2665440"/>
            <a:chOff x="2124000" y="3645000"/>
            <a:chExt cx="5614920" cy="266544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5119560" y="4508640"/>
              <a:ext cx="1731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5478480" y="5086440"/>
              <a:ext cx="1731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5796000" y="4581360"/>
              <a:ext cx="1731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124000" y="3645000"/>
              <a:ext cx="2808360" cy="1079280"/>
            </a:xfrm>
            <a:custGeom>
              <a:avLst/>
              <a:gdLst/>
              <a:ahLst/>
              <a:rect l="l" t="t" r="r" b="b"/>
              <a:pathLst>
                <a:path w="1564" h="590">
                  <a:moveTo>
                    <a:pt x="68" y="0"/>
                  </a:moveTo>
                  <a:cubicBezTo>
                    <a:pt x="34" y="178"/>
                    <a:pt x="0" y="356"/>
                    <a:pt x="249" y="454"/>
                  </a:cubicBezTo>
                  <a:cubicBezTo>
                    <a:pt x="498" y="552"/>
                    <a:pt x="1031" y="571"/>
                    <a:pt x="1564" y="590"/>
                  </a:cubicBezTo>
                </a:path>
              </a:pathLst>
            </a:custGeom>
            <a:noFill/>
            <a:ln w="63360">
              <a:solidFill>
                <a:srgbClr val="00008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43640" y="5805360"/>
              <a:ext cx="129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86"/>
                  </a:solidFill>
                  <a:latin typeface="Tahoma"/>
                </a:rPr>
                <a:t>Widge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108000" y="4633920"/>
            <a:ext cx="4392720" cy="2016000"/>
          </a:xfrm>
          <a:prstGeom prst="cloudCallout">
            <a:avLst>
              <a:gd name="adj1" fmla="val -62833"/>
              <a:gd name="adj2" fmla="val 54013"/>
            </a:avLst>
          </a:prstGeom>
          <a:solidFill>
            <a:srgbClr val="6666ff">
              <a:alpha val="60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10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Se volessi creare, usando gli stessi metodi, finestre e scrollbar di un altro tipo?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35600" y="2382840"/>
            <a:ext cx="165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86"/>
                </a:solidFill>
                <a:latin typeface="Tahoma"/>
              </a:rPr>
              <a:t>conosce ed us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393-C9FE-4D30-ACD4-0583A58623E6}" type="slidenum">
              <a:t>3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86"/>
                </a:solidFill>
                <a:latin typeface="Comic Sans MS"/>
              </a:rPr>
              <a:t>Una tipica applicazio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793800" cy="1441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84720" y="3213000"/>
            <a:ext cx="1295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32130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6"/>
                </a:solidFill>
                <a:latin typeface="Tahoma"/>
              </a:rPr>
              <a:t>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3170160"/>
            <a:ext cx="2592720" cy="429120"/>
          </a:xfrm>
          <a:prstGeom prst="rect">
            <a:avLst/>
          </a:prstGeom>
          <a:noFill/>
          <a:ln w="1260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6"/>
                </a:solidFill>
                <a:latin typeface="Tahoma"/>
              </a:rPr>
              <a:t>Abstract Fa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2638440"/>
            <a:ext cx="2304720" cy="287280"/>
          </a:xfrm>
          <a:prstGeom prst="leftArrow">
            <a:avLst>
              <a:gd name="adj1" fmla="val 50000"/>
              <a:gd name="adj2" fmla="val 200564"/>
            </a:avLst>
          </a:prstGeom>
          <a:gradFill rotWithShape="0">
            <a:gsLst>
              <a:gs pos="0">
                <a:srgbClr val="000086"/>
              </a:gs>
              <a:gs pos="100000">
                <a:srgbClr val="0000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42920" y="1700280"/>
            <a:ext cx="2016360" cy="1460520"/>
          </a:xfrm>
          <a:prstGeom prst="rect">
            <a:avLst/>
          </a:prstGeom>
          <a:ln w="12600">
            <a:solidFill>
              <a:srgbClr val="000086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3635280" y="1484280"/>
            <a:ext cx="20163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42" y="13369"/>
                </a:moveTo>
                <a:lnTo>
                  <a:pt x="-816" y="3426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86"/>
                </a:solidFill>
                <a:latin typeface="Tahoma"/>
              </a:rPr>
              <a:t>“</a:t>
            </a:r>
            <a:r>
              <a:rPr b="0" i="1" lang="it-IT" sz="1400" spc="-1" strike="noStrike">
                <a:solidFill>
                  <a:srgbClr val="000086"/>
                </a:solidFill>
                <a:latin typeface="Tahoma"/>
              </a:rPr>
              <a:t>Factory Abstract”, Dorothy Winslade, ca.19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68360" y="4941720"/>
            <a:ext cx="1103400" cy="90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9280" y="59072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6"/>
                </a:solidFill>
                <a:latin typeface="Tahoma"/>
              </a:rPr>
              <a:t>Concrete Fa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endCxn id="88" idx="0"/>
          </p:cNvCxnSpPr>
          <p:nvPr/>
        </p:nvCxnSpPr>
        <p:spPr>
          <a:xfrm rot="5400000">
            <a:off x="850680" y="3885120"/>
            <a:ext cx="1226160" cy="888120"/>
          </a:xfrm>
          <a:prstGeom prst="bentConnector3">
            <a:avLst>
              <a:gd name="adj1" fmla="val 49985"/>
            </a:avLst>
          </a:prstGeom>
          <a:ln w="63360">
            <a:solidFill>
              <a:srgbClr val="000086"/>
            </a:solidFill>
            <a:miter/>
            <a:tailEnd len="lg" type="triangle" w="lg"/>
          </a:ln>
        </p:spPr>
      </p:cxnSp>
      <p:grpSp>
        <p:nvGrpSpPr>
          <p:cNvPr id="91" name=""/>
          <p:cNvGrpSpPr/>
          <p:nvPr/>
        </p:nvGrpSpPr>
        <p:grpSpPr>
          <a:xfrm>
            <a:off x="2124000" y="3716280"/>
            <a:ext cx="1150920" cy="2104920"/>
            <a:chOff x="2124000" y="3716280"/>
            <a:chExt cx="1150920" cy="2104920"/>
          </a:xfrm>
        </p:grpSpPr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2195640" y="494172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3" name=""/>
            <p:cNvCxnSpPr>
              <a:endCxn id="92" idx="0"/>
            </p:cNvCxnSpPr>
            <p:nvPr/>
          </p:nvCxnSpPr>
          <p:spPr>
            <a:xfrm flipH="1" rot="16200000">
              <a:off x="1816920" y="4023000"/>
              <a:ext cx="1226160" cy="612000"/>
            </a:xfrm>
            <a:prstGeom prst="bentConnector3">
              <a:avLst>
                <a:gd name="adj1" fmla="val 49985"/>
              </a:avLst>
            </a:prstGeom>
            <a:ln w="63360">
              <a:solidFill>
                <a:srgbClr val="000086"/>
              </a:solidFill>
              <a:miter/>
              <a:tailEnd len="lg" type="triangle" w="lg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2700360" y="4325400"/>
            <a:ext cx="1933560" cy="1479960"/>
            <a:chOff x="2700360" y="4325400"/>
            <a:chExt cx="1933560" cy="1479960"/>
          </a:xfrm>
        </p:grpSpPr>
        <p:pic>
          <p:nvPicPr>
            <p:cNvPr id="95" name="" descr=""/>
            <p:cNvPicPr/>
            <p:nvPr/>
          </p:nvPicPr>
          <p:blipFill>
            <a:blip r:embed="rId6"/>
            <a:stretch/>
          </p:blipFill>
          <p:spPr>
            <a:xfrm>
              <a:off x="3708360" y="4869000"/>
              <a:ext cx="925560" cy="936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6" name=""/>
            <p:cNvCxnSpPr>
              <a:endCxn id="95" idx="0"/>
            </p:cNvCxnSpPr>
            <p:nvPr/>
          </p:nvCxnSpPr>
          <p:spPr>
            <a:xfrm>
              <a:off x="2700360" y="4325400"/>
              <a:ext cx="1472400" cy="543960"/>
            </a:xfrm>
            <a:prstGeom prst="bentConnector2">
              <a:avLst/>
            </a:prstGeom>
            <a:ln w="63360">
              <a:solidFill>
                <a:srgbClr val="000086"/>
              </a:solidFill>
              <a:miter/>
              <a:tailEnd len="lg" type="triangle" w="lg"/>
            </a:ln>
          </p:spPr>
        </p:cxnSp>
      </p:grpSp>
      <p:sp>
        <p:nvSpPr>
          <p:cNvPr id="97" name=""/>
          <p:cNvSpPr/>
          <p:nvPr/>
        </p:nvSpPr>
        <p:spPr>
          <a:xfrm>
            <a:off x="1547640" y="5925960"/>
            <a:ext cx="216000" cy="95400"/>
          </a:xfrm>
          <a:custGeom>
            <a:avLst/>
            <a:gdLst/>
            <a:ahLst/>
            <a:rect l="l" t="t" r="r" b="b"/>
            <a:pathLst>
              <a:path w="136" h="60">
                <a:moveTo>
                  <a:pt x="136" y="15"/>
                </a:moveTo>
                <a:cubicBezTo>
                  <a:pt x="68" y="7"/>
                  <a:pt x="0" y="0"/>
                  <a:pt x="91" y="6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63640" y="4076640"/>
            <a:ext cx="7416720" cy="2664000"/>
            <a:chOff x="1763640" y="4076640"/>
            <a:chExt cx="7416720" cy="2664000"/>
          </a:xfrm>
        </p:grpSpPr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7236000" y="5157720"/>
              <a:ext cx="1511280" cy="10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6804000" y="5516640"/>
              <a:ext cx="1731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885080" y="4154400"/>
              <a:ext cx="129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86"/>
                  </a:solidFill>
                  <a:latin typeface="Tahoma"/>
                </a:rPr>
                <a:t>Widge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63640" y="5950080"/>
              <a:ext cx="4896000" cy="718920"/>
            </a:xfrm>
            <a:custGeom>
              <a:avLst/>
              <a:gdLst/>
              <a:ahLst/>
              <a:rect l="l" t="t" r="r" b="b"/>
              <a:pathLst>
                <a:path w="2858" h="453">
                  <a:moveTo>
                    <a:pt x="0" y="0"/>
                  </a:moveTo>
                  <a:cubicBezTo>
                    <a:pt x="147" y="181"/>
                    <a:pt x="295" y="363"/>
                    <a:pt x="771" y="408"/>
                  </a:cubicBezTo>
                  <a:cubicBezTo>
                    <a:pt x="1247" y="453"/>
                    <a:pt x="2052" y="362"/>
                    <a:pt x="2858" y="272"/>
                  </a:cubicBezTo>
                </a:path>
              </a:pathLst>
            </a:custGeom>
            <a:noFill/>
            <a:ln w="63360">
              <a:solidFill>
                <a:srgbClr val="00008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9"/>
            <a:stretch/>
          </p:blipFill>
          <p:spPr>
            <a:xfrm>
              <a:off x="6372360" y="4076640"/>
              <a:ext cx="122400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0"/>
            <a:stretch/>
          </p:blipFill>
          <p:spPr>
            <a:xfrm>
              <a:off x="6084720" y="4221000"/>
              <a:ext cx="1098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132000" y="5445000"/>
              <a:ext cx="2808360" cy="947880"/>
            </a:xfrm>
            <a:custGeom>
              <a:avLst/>
              <a:gdLst/>
              <a:ahLst/>
              <a:rect l="l" t="t" r="r" b="b"/>
              <a:pathLst>
                <a:path w="1678" h="597">
                  <a:moveTo>
                    <a:pt x="0" y="318"/>
                  </a:moveTo>
                  <a:cubicBezTo>
                    <a:pt x="86" y="457"/>
                    <a:pt x="173" y="597"/>
                    <a:pt x="453" y="544"/>
                  </a:cubicBezTo>
                  <a:cubicBezTo>
                    <a:pt x="733" y="491"/>
                    <a:pt x="1205" y="245"/>
                    <a:pt x="1678" y="0"/>
                  </a:cubicBezTo>
                </a:path>
              </a:pathLst>
            </a:custGeom>
            <a:noFill/>
            <a:ln w="63360">
              <a:solidFill>
                <a:srgbClr val="00008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035600" y="2382840"/>
            <a:ext cx="165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86"/>
                </a:solidFill>
                <a:latin typeface="Tahoma"/>
              </a:rPr>
              <a:t>conosce ed us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17A-68CC-4B18-9772-990DBA678902}" type="slidenum">
              <a:t>4</a:t>
            </a:fld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86"/>
                </a:solidFill>
                <a:latin typeface="Comic Sans MS"/>
              </a:rPr>
              <a:t>…</a:t>
            </a:r>
            <a:r>
              <a:rPr b="1" i="1" lang="it-IT" sz="4400" spc="-1" strike="noStrike">
                <a:solidFill>
                  <a:srgbClr val="000086"/>
                </a:solidFill>
                <a:latin typeface="Comic Sans MS"/>
              </a:rPr>
              <a:t>che in UML risulta cos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8000" y="2133720"/>
            <a:ext cx="1297080" cy="5032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75560" y="2185920"/>
            <a:ext cx="9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6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131920"/>
            <a:ext cx="2016000" cy="100980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93920" y="2160720"/>
            <a:ext cx="19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86"/>
                </a:solidFill>
                <a:latin typeface="Tahoma"/>
              </a:rPr>
              <a:t>Widget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93920" y="2568600"/>
            <a:ext cx="1892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86"/>
                </a:solidFill>
                <a:latin typeface="Tahoma"/>
              </a:rPr>
              <a:t>CreateScrollB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86"/>
                </a:solidFill>
                <a:latin typeface="Tahoma"/>
              </a:rPr>
              <a:t>CreateWindow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2506680"/>
            <a:ext cx="201600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348000" y="2389320"/>
            <a:ext cx="3240000" cy="0"/>
          </a:xfrm>
          <a:prstGeom prst="line">
            <a:avLst/>
          </a:prstGeom>
          <a:ln w="12600">
            <a:solidFill>
              <a:srgbClr val="00008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3141720"/>
            <a:ext cx="1297080" cy="43164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99280" y="3166920"/>
            <a:ext cx="122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86"/>
                </a:solidFill>
                <a:latin typeface="Tahoma"/>
              </a:rPr>
              <a:t>Window</a:t>
            </a: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5013360"/>
            <a:ext cx="1224000" cy="3952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504828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86"/>
                </a:solidFill>
                <a:latin typeface="Tahoma"/>
              </a:rPr>
              <a:t>Scroll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09" idx="3"/>
            <a:endCxn id="116" idx="3"/>
          </p:cNvCxnSpPr>
          <p:nvPr/>
        </p:nvCxnSpPr>
        <p:spPr>
          <a:xfrm flipH="1">
            <a:off x="7524000" y="2385720"/>
            <a:ext cx="361080" cy="972360"/>
          </a:xfrm>
          <a:prstGeom prst="bentConnector3">
            <a:avLst>
              <a:gd name="adj1" fmla="val -284530"/>
            </a:avLst>
          </a:prstGeom>
          <a:ln w="9360">
            <a:solidFill>
              <a:srgbClr val="000086"/>
            </a:solidFill>
            <a:miter/>
            <a:tailEnd len="lg" type="arrow" w="lg"/>
          </a:ln>
        </p:spPr>
      </p:cxnSp>
      <p:cxnSp>
        <p:nvCxnSpPr>
          <p:cNvPr id="121" name=""/>
          <p:cNvCxnSpPr>
            <a:endCxn id="118" idx="3"/>
          </p:cNvCxnSpPr>
          <p:nvPr/>
        </p:nvCxnSpPr>
        <p:spPr>
          <a:xfrm rot="5400000">
            <a:off x="7252560" y="3556080"/>
            <a:ext cx="1854720" cy="1458000"/>
          </a:xfrm>
          <a:prstGeom prst="bentConnector2">
            <a:avLst/>
          </a:prstGeom>
          <a:ln w="9360">
            <a:solidFill>
              <a:srgbClr val="000086"/>
            </a:solidFill>
            <a:miter/>
            <a:tailEnd len="lg" type="arrow" w="lg"/>
          </a:ln>
        </p:spPr>
      </p:cxnSp>
      <p:sp>
        <p:nvSpPr>
          <p:cNvPr id="122" name=""/>
          <p:cNvSpPr/>
          <p:nvPr/>
        </p:nvSpPr>
        <p:spPr>
          <a:xfrm>
            <a:off x="2556000" y="4076640"/>
            <a:ext cx="2087280" cy="100980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19360" y="4105440"/>
            <a:ext cx="20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Tahoma"/>
              </a:rPr>
              <a:t>PMWidget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19360" y="4513320"/>
            <a:ext cx="19605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CreateScrollB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CreateWindow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4451400"/>
            <a:ext cx="208728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8000" y="4076640"/>
            <a:ext cx="2303280" cy="100980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41054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Tahoma"/>
              </a:rPr>
              <a:t>MotifWidget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513320"/>
            <a:ext cx="21607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CreateScrollB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CreateWindow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4451400"/>
            <a:ext cx="230328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0"/>
            <a:endCxn id="111" idx="2"/>
          </p:cNvCxnSpPr>
          <p:nvPr/>
        </p:nvCxnSpPr>
        <p:spPr>
          <a:xfrm flipH="1" flipV="1" rot="5400000">
            <a:off x="1332360" y="3068640"/>
            <a:ext cx="935640" cy="1080360"/>
          </a:xfrm>
          <a:prstGeom prst="bentConnector3">
            <a:avLst>
              <a:gd name="adj1" fmla="val 49884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36680" y="3141720"/>
            <a:ext cx="21600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2" idx="0"/>
            <a:endCxn id="131" idx="3"/>
          </p:cNvCxnSpPr>
          <p:nvPr/>
        </p:nvCxnSpPr>
        <p:spPr>
          <a:xfrm flipV="1" rot="16200000">
            <a:off x="2612520" y="3088440"/>
            <a:ext cx="719640" cy="1256400"/>
          </a:xfrm>
          <a:prstGeom prst="bentConnector3">
            <a:avLst>
              <a:gd name="adj1" fmla="val 49849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5219640" y="4221000"/>
            <a:ext cx="1513080" cy="43200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1280" y="42465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Tahoma"/>
              </a:rPr>
              <a:t>PM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93080" y="4221000"/>
            <a:ext cx="1655640" cy="43200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42465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Tahoma"/>
              </a:rPr>
              <a:t>Motif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1280" y="6058080"/>
            <a:ext cx="1512720" cy="3952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6093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Tahoma"/>
              </a:rPr>
              <a:t>PMScroll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6058080"/>
            <a:ext cx="1655640" cy="3952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07120" y="609300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6"/>
                </a:solidFill>
                <a:latin typeface="Tahoma"/>
              </a:rPr>
              <a:t>MotifScroll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5080" y="20844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299736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4869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80960" y="2084400"/>
            <a:ext cx="9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75120" y="2084400"/>
            <a:ext cx="9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37" idx="0"/>
            <a:endCxn id="147" idx="3"/>
          </p:cNvCxnSpPr>
          <p:nvPr/>
        </p:nvCxnSpPr>
        <p:spPr>
          <a:xfrm flipH="1" flipV="1" rot="5400000">
            <a:off x="6265440" y="5411160"/>
            <a:ext cx="429480" cy="864360"/>
          </a:xfrm>
          <a:prstGeom prst="bentConnector3">
            <a:avLst>
              <a:gd name="adj1" fmla="val 46224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6804000" y="5413320"/>
            <a:ext cx="21600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9" idx="0"/>
            <a:endCxn id="147" idx="3"/>
          </p:cNvCxnSpPr>
          <p:nvPr/>
        </p:nvCxnSpPr>
        <p:spPr>
          <a:xfrm flipV="1" rot="16200000">
            <a:off x="7201800" y="5338080"/>
            <a:ext cx="429480" cy="1010520"/>
          </a:xfrm>
          <a:prstGeom prst="bentConnector3">
            <a:avLst>
              <a:gd name="adj1" fmla="val 46979"/>
            </a:avLst>
          </a:prstGeom>
          <a:ln w="12600">
            <a:solidFill>
              <a:srgbClr val="000086"/>
            </a:solidFill>
            <a:miter/>
          </a:ln>
        </p:spPr>
      </p:cxnSp>
      <p:cxnSp>
        <p:nvCxnSpPr>
          <p:cNvPr id="149" name=""/>
          <p:cNvCxnSpPr>
            <a:stCxn id="133" idx="0"/>
            <a:endCxn id="150" idx="3"/>
          </p:cNvCxnSpPr>
          <p:nvPr/>
        </p:nvCxnSpPr>
        <p:spPr>
          <a:xfrm flipH="1" flipV="1" rot="5400000">
            <a:off x="6211080" y="3554640"/>
            <a:ext cx="432360" cy="900720"/>
          </a:xfrm>
          <a:prstGeom prst="bentConnector3">
            <a:avLst>
              <a:gd name="adj1" fmla="val 50000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6769080" y="3573360"/>
            <a:ext cx="21600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35" idx="0"/>
            <a:endCxn id="150" idx="3"/>
          </p:cNvCxnSpPr>
          <p:nvPr/>
        </p:nvCxnSpPr>
        <p:spPr>
          <a:xfrm flipV="1" rot="16200000">
            <a:off x="7183080" y="3481920"/>
            <a:ext cx="432360" cy="1045440"/>
          </a:xfrm>
          <a:prstGeom prst="bentConnector3">
            <a:avLst>
              <a:gd name="adj1" fmla="val 50000"/>
            </a:avLst>
          </a:prstGeom>
          <a:ln w="12600">
            <a:solidFill>
              <a:srgbClr val="000086"/>
            </a:solidFill>
            <a:miter/>
          </a:ln>
        </p:spPr>
      </p:cxnSp>
      <p:cxnSp>
        <p:nvCxnSpPr>
          <p:cNvPr id="152" name=""/>
          <p:cNvCxnSpPr>
            <a:stCxn id="122" idx="3"/>
            <a:endCxn id="133" idx="1"/>
          </p:cNvCxnSpPr>
          <p:nvPr/>
        </p:nvCxnSpPr>
        <p:spPr>
          <a:xfrm flipV="1">
            <a:off x="4642920" y="4436640"/>
            <a:ext cx="577080" cy="144720"/>
          </a:xfrm>
          <a:prstGeom prst="bentConnector3">
            <a:avLst>
              <a:gd name="adj1" fmla="val 49812"/>
            </a:avLst>
          </a:prstGeom>
          <a:ln w="12600">
            <a:solidFill>
              <a:srgbClr val="000086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22" idx="3"/>
            <a:endCxn id="137" idx="1"/>
          </p:cNvCxnSpPr>
          <p:nvPr/>
        </p:nvCxnSpPr>
        <p:spPr>
          <a:xfrm>
            <a:off x="4643280" y="4581000"/>
            <a:ext cx="648360" cy="1675800"/>
          </a:xfrm>
          <a:prstGeom prst="bentConnector3">
            <a:avLst>
              <a:gd name="adj1" fmla="val 49777"/>
            </a:avLst>
          </a:prstGeom>
          <a:ln w="12600">
            <a:solidFill>
              <a:srgbClr val="000086"/>
            </a:solidFill>
            <a:prstDash val="dash"/>
            <a:miter/>
            <a:tailEnd len="lg" type="arrow" w="lg"/>
          </a:ln>
        </p:spPr>
      </p:cxnSp>
      <p:cxnSp>
        <p:nvCxnSpPr>
          <p:cNvPr id="154" name=""/>
          <p:cNvCxnSpPr/>
          <p:nvPr/>
        </p:nvCxnSpPr>
        <p:spPr>
          <a:xfrm flipH="1" rot="16200000">
            <a:off x="4354200" y="1987920"/>
            <a:ext cx="1583640" cy="7776360"/>
          </a:xfrm>
          <a:prstGeom prst="bentConnector2">
            <a:avLst/>
          </a:prstGeom>
          <a:ln w="12600">
            <a:solidFill>
              <a:srgbClr val="000086"/>
            </a:solidFill>
            <a:prstDash val="dash"/>
            <a:miter/>
          </a:ln>
        </p:spPr>
      </p:cxnSp>
      <p:cxnSp>
        <p:nvCxnSpPr>
          <p:cNvPr id="155" name=""/>
          <p:cNvCxnSpPr>
            <a:endCxn id="139" idx="3"/>
          </p:cNvCxnSpPr>
          <p:nvPr/>
        </p:nvCxnSpPr>
        <p:spPr>
          <a:xfrm flipV="1" rot="16200000">
            <a:off x="8695080" y="6308640"/>
            <a:ext cx="394200" cy="288000"/>
          </a:xfrm>
          <a:prstGeom prst="bentConnector2">
            <a:avLst/>
          </a:prstGeom>
          <a:ln w="12600">
            <a:solidFill>
              <a:srgbClr val="000086"/>
            </a:solidFill>
            <a:prstDash val="dash"/>
            <a:miter/>
            <a:tailEnd len="lg" type="arrow" w="lg"/>
          </a:ln>
        </p:spPr>
      </p:cxnSp>
      <p:cxnSp>
        <p:nvCxnSpPr>
          <p:cNvPr id="156" name=""/>
          <p:cNvCxnSpPr>
            <a:endCxn id="135" idx="3"/>
          </p:cNvCxnSpPr>
          <p:nvPr/>
        </p:nvCxnSpPr>
        <p:spPr>
          <a:xfrm flipV="1" rot="16200000">
            <a:off x="7991640" y="5192640"/>
            <a:ext cx="1801080" cy="288000"/>
          </a:xfrm>
          <a:prstGeom prst="bentConnector2">
            <a:avLst/>
          </a:prstGeom>
          <a:ln w="12600">
            <a:solidFill>
              <a:srgbClr val="000086"/>
            </a:solidFill>
            <a:prstDash val="dash"/>
            <a:miter/>
            <a:tailEnd len="lg" type="arrow" w="lg"/>
          </a:ln>
        </p:spPr>
      </p:cxnSp>
      <p:sp>
        <p:nvSpPr>
          <p:cNvPr id="157" name=""/>
          <p:cNvSpPr/>
          <p:nvPr/>
        </p:nvSpPr>
        <p:spPr>
          <a:xfrm>
            <a:off x="1258920" y="508464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0440" y="456084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2040" y="6246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59200" y="41194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567640" y="63914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90040" y="4121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701-0BD4-4160-95CE-37B5919151C9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Codice del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706200" y="1700280"/>
            <a:ext cx="5003640" cy="446544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4560" y="2317680"/>
            <a:ext cx="259236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6"/>
                </a:solidFill>
                <a:latin typeface="Courier New"/>
              </a:rPr>
              <a:t>WidgetFactory w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6"/>
                </a:solidFill>
                <a:latin typeface="Courier New"/>
              </a:rPr>
              <a:t>Window 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6"/>
                </a:solidFill>
                <a:latin typeface="Courier New"/>
              </a:rPr>
              <a:t>ScrollBar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89480" y="3559320"/>
            <a:ext cx="73080" cy="71280"/>
          </a:xfrm>
          <a:prstGeom prst="ellipse">
            <a:avLst/>
          </a:prstGeom>
          <a:solidFill>
            <a:srgbClr val="000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89480" y="3848040"/>
            <a:ext cx="73080" cy="71640"/>
          </a:xfrm>
          <a:prstGeom prst="ellipse">
            <a:avLst/>
          </a:prstGeom>
          <a:solidFill>
            <a:srgbClr val="000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89480" y="3703680"/>
            <a:ext cx="73080" cy="71280"/>
          </a:xfrm>
          <a:prstGeom prst="ellipse">
            <a:avLst/>
          </a:prstGeom>
          <a:solidFill>
            <a:srgbClr val="000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4560" y="4029120"/>
            <a:ext cx="388764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6"/>
                </a:solidFill>
                <a:latin typeface="Courier New"/>
              </a:rPr>
              <a:t>wf = new PMWidgetFactor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6"/>
                </a:solidFill>
                <a:latin typeface="Courier New"/>
              </a:rPr>
              <a:t>w = wf.CreateWindo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6"/>
                </a:solidFill>
                <a:latin typeface="Courier New"/>
              </a:rPr>
              <a:t>s = wf.CreateScrollB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6"/>
                </a:solidFill>
                <a:latin typeface="Courier New"/>
              </a:rPr>
              <a:t>w.resize(240,3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56000" y="2301840"/>
            <a:ext cx="194328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71840" y="2733840"/>
            <a:ext cx="935280" cy="318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71840" y="3078000"/>
            <a:ext cx="1368720" cy="319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236844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I tipi statici che il client deve conoscere sono SOLO le classi astra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4468680"/>
            <a:ext cx="1943280" cy="287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4797360"/>
            <a:ext cx="237672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75320" y="5157720"/>
            <a:ext cx="208908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4560" y="4437000"/>
            <a:ext cx="31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ahoma"/>
              </a:rPr>
              <a:t>Binding dinamico dei metodi invocati all’implementazione fornita dalle classi concrete in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3962520"/>
            <a:ext cx="2448000" cy="474480"/>
          </a:xfrm>
          <a:prstGeom prst="bevel">
            <a:avLst>
              <a:gd name="adj" fmla="val 12500"/>
            </a:avLst>
          </a:prstGeom>
          <a:solidFill>
            <a:srgbClr val="6666ff">
              <a:alpha val="2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32925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FACTORY CONC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F8D-7C99-4F21-B20B-5BDA1EA134D5}" type="slidenum">
              <a:t>6</a:t>
            </a:fld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Lo schema UML gene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2133720"/>
            <a:ext cx="1297080" cy="5032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75560" y="2185920"/>
            <a:ext cx="9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6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2131920"/>
            <a:ext cx="2016000" cy="100980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93920" y="2160720"/>
            <a:ext cx="19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86"/>
                </a:solidFill>
                <a:latin typeface="Tahoma"/>
              </a:rPr>
              <a:t>Abstract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2568600"/>
            <a:ext cx="1892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86"/>
                </a:solidFill>
                <a:latin typeface="Tahoma"/>
              </a:rPr>
              <a:t>CreateProductA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86"/>
                </a:solidFill>
                <a:latin typeface="Tahoma"/>
              </a:rPr>
              <a:t>CreateProductB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2506680"/>
            <a:ext cx="201600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348000" y="2389320"/>
            <a:ext cx="3240000" cy="0"/>
          </a:xfrm>
          <a:prstGeom prst="line">
            <a:avLst/>
          </a:prstGeom>
          <a:ln w="12600">
            <a:solidFill>
              <a:srgbClr val="00008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96080" y="3141720"/>
            <a:ext cx="1989000" cy="43164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83120" y="32130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86"/>
                </a:solidFill>
                <a:latin typeface="Tahoma"/>
              </a:rPr>
              <a:t>AbstractProdu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4941720"/>
            <a:ext cx="2016000" cy="43200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51640" y="501336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86"/>
                </a:solidFill>
                <a:latin typeface="Tahoma"/>
              </a:rPr>
              <a:t>AbstractProduc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3" idx="3"/>
            <a:endCxn id="190" idx="3"/>
          </p:cNvCxnSpPr>
          <p:nvPr/>
        </p:nvCxnSpPr>
        <p:spPr>
          <a:xfrm>
            <a:off x="7884720" y="2385720"/>
            <a:ext cx="2520" cy="972360"/>
          </a:xfrm>
          <a:prstGeom prst="bentConnector3">
            <a:avLst>
              <a:gd name="adj1" fmla="val 73700000"/>
            </a:avLst>
          </a:prstGeom>
          <a:ln w="9360">
            <a:solidFill>
              <a:srgbClr val="000086"/>
            </a:solidFill>
            <a:miter/>
            <a:tailEnd len="lg" type="arrow" w="lg"/>
          </a:ln>
        </p:spPr>
      </p:cxnSp>
      <p:cxnSp>
        <p:nvCxnSpPr>
          <p:cNvPr id="195" name=""/>
          <p:cNvCxnSpPr>
            <a:endCxn id="192" idx="3"/>
          </p:cNvCxnSpPr>
          <p:nvPr/>
        </p:nvCxnSpPr>
        <p:spPr>
          <a:xfrm rot="5400000">
            <a:off x="7388280" y="3491640"/>
            <a:ext cx="1945440" cy="1388160"/>
          </a:xfrm>
          <a:prstGeom prst="bentConnector2">
            <a:avLst/>
          </a:prstGeom>
          <a:ln w="9360">
            <a:solidFill>
              <a:srgbClr val="000086"/>
            </a:solidFill>
            <a:miter/>
            <a:tailEnd len="lg" type="arrow" w="lg"/>
          </a:ln>
        </p:spPr>
      </p:cxnSp>
      <p:sp>
        <p:nvSpPr>
          <p:cNvPr id="196" name=""/>
          <p:cNvSpPr/>
          <p:nvPr/>
        </p:nvSpPr>
        <p:spPr>
          <a:xfrm>
            <a:off x="2556000" y="4076640"/>
            <a:ext cx="2087280" cy="100980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19360" y="4105440"/>
            <a:ext cx="20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ConcreteFactor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19360" y="4451400"/>
            <a:ext cx="196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CreateProductA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CreateProductB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4451400"/>
            <a:ext cx="208728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000" y="4076640"/>
            <a:ext cx="2160360" cy="100980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41054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ConcreteFactory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4451400"/>
            <a:ext cx="216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CreateProductA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CreateProductB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8000" y="4451400"/>
            <a:ext cx="215892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0" idx="0"/>
            <a:endCxn id="185" idx="2"/>
          </p:cNvCxnSpPr>
          <p:nvPr/>
        </p:nvCxnSpPr>
        <p:spPr>
          <a:xfrm flipH="1" flipV="1" rot="5400000">
            <a:off x="1296720" y="3033000"/>
            <a:ext cx="935640" cy="1151640"/>
          </a:xfrm>
          <a:prstGeom prst="bentConnector3">
            <a:avLst>
              <a:gd name="adj1" fmla="val 49884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2236680" y="3141720"/>
            <a:ext cx="21600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196" idx="0"/>
            <a:endCxn id="205" idx="3"/>
          </p:cNvCxnSpPr>
          <p:nvPr/>
        </p:nvCxnSpPr>
        <p:spPr>
          <a:xfrm flipV="1" rot="16200000">
            <a:off x="2612520" y="3088440"/>
            <a:ext cx="719640" cy="1256400"/>
          </a:xfrm>
          <a:prstGeom prst="bentConnector3">
            <a:avLst>
              <a:gd name="adj1" fmla="val 65115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5219640" y="4221000"/>
            <a:ext cx="1368360" cy="43200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91280" y="424656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Product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93080" y="4221000"/>
            <a:ext cx="1366560" cy="43200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42465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Product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64000" y="6058080"/>
            <a:ext cx="1368720" cy="3952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6093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Product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6058080"/>
            <a:ext cx="1295280" cy="3952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07120" y="609300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Product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85080" y="20844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83640" y="30481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67640" y="48560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80960" y="2084400"/>
            <a:ext cx="9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75120" y="2084400"/>
            <a:ext cx="9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1" idx="0"/>
            <a:endCxn id="221" idx="3"/>
          </p:cNvCxnSpPr>
          <p:nvPr/>
        </p:nvCxnSpPr>
        <p:spPr>
          <a:xfrm flipH="1" flipV="1" rot="5400000">
            <a:off x="6250320" y="5396040"/>
            <a:ext cx="459720" cy="864360"/>
          </a:xfrm>
          <a:prstGeom prst="bentConnector3">
            <a:avLst>
              <a:gd name="adj1" fmla="val 46003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804000" y="5383080"/>
            <a:ext cx="21600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4" idx="0"/>
            <a:endCxn id="221" idx="3"/>
          </p:cNvCxnSpPr>
          <p:nvPr/>
        </p:nvCxnSpPr>
        <p:spPr>
          <a:xfrm flipV="1" rot="16200000">
            <a:off x="7100280" y="5409720"/>
            <a:ext cx="494640" cy="872280"/>
          </a:xfrm>
          <a:prstGeom prst="bentConnector3">
            <a:avLst>
              <a:gd name="adj1" fmla="val 49817"/>
            </a:avLst>
          </a:prstGeom>
          <a:ln w="12600">
            <a:solidFill>
              <a:srgbClr val="000086"/>
            </a:solidFill>
            <a:miter/>
          </a:ln>
        </p:spPr>
      </p:cxnSp>
      <p:cxnSp>
        <p:nvCxnSpPr>
          <p:cNvPr id="223" name=""/>
          <p:cNvCxnSpPr>
            <a:stCxn id="207" idx="0"/>
            <a:endCxn id="224" idx="3"/>
          </p:cNvCxnSpPr>
          <p:nvPr/>
        </p:nvCxnSpPr>
        <p:spPr>
          <a:xfrm flipH="1" flipV="1" rot="5400000">
            <a:off x="6174360" y="3517920"/>
            <a:ext cx="432360" cy="973800"/>
          </a:xfrm>
          <a:prstGeom prst="bentConnector3">
            <a:avLst>
              <a:gd name="adj1" fmla="val 50000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6769080" y="3573360"/>
            <a:ext cx="21600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9" idx="0"/>
            <a:endCxn id="224" idx="3"/>
          </p:cNvCxnSpPr>
          <p:nvPr/>
        </p:nvCxnSpPr>
        <p:spPr>
          <a:xfrm flipV="1" rot="16200000">
            <a:off x="7110720" y="3554280"/>
            <a:ext cx="432360" cy="900720"/>
          </a:xfrm>
          <a:prstGeom prst="bentConnector3">
            <a:avLst>
              <a:gd name="adj1" fmla="val 50000"/>
            </a:avLst>
          </a:prstGeom>
          <a:ln w="12600">
            <a:solidFill>
              <a:srgbClr val="000086"/>
            </a:solidFill>
            <a:miter/>
          </a:ln>
        </p:spPr>
      </p:cxnSp>
      <p:cxnSp>
        <p:nvCxnSpPr>
          <p:cNvPr id="226" name=""/>
          <p:cNvCxnSpPr>
            <a:stCxn id="196" idx="3"/>
            <a:endCxn id="207" idx="1"/>
          </p:cNvCxnSpPr>
          <p:nvPr/>
        </p:nvCxnSpPr>
        <p:spPr>
          <a:xfrm flipV="1">
            <a:off x="4642920" y="4436640"/>
            <a:ext cx="577080" cy="144720"/>
          </a:xfrm>
          <a:prstGeom prst="bentConnector3">
            <a:avLst>
              <a:gd name="adj1" fmla="val 49812"/>
            </a:avLst>
          </a:prstGeom>
          <a:ln w="12600">
            <a:solidFill>
              <a:srgbClr val="000086"/>
            </a:solidFill>
            <a:prstDash val="dash"/>
            <a:miter/>
            <a:tailEnd len="lg" type="arrow" w="lg"/>
          </a:ln>
        </p:spPr>
      </p:cxnSp>
      <p:cxnSp>
        <p:nvCxnSpPr>
          <p:cNvPr id="227" name=""/>
          <p:cNvCxnSpPr>
            <a:stCxn id="196" idx="3"/>
            <a:endCxn id="211" idx="1"/>
          </p:cNvCxnSpPr>
          <p:nvPr/>
        </p:nvCxnSpPr>
        <p:spPr>
          <a:xfrm>
            <a:off x="4643280" y="4581000"/>
            <a:ext cx="721440" cy="1675800"/>
          </a:xfrm>
          <a:prstGeom prst="bentConnector3">
            <a:avLst>
              <a:gd name="adj1" fmla="val 40039"/>
            </a:avLst>
          </a:prstGeom>
          <a:ln w="12600">
            <a:solidFill>
              <a:srgbClr val="000086"/>
            </a:solidFill>
            <a:prstDash val="dash"/>
            <a:miter/>
            <a:tailEnd len="lg" type="arrow" w="lg"/>
          </a:ln>
        </p:spPr>
      </p:cxnSp>
      <p:cxnSp>
        <p:nvCxnSpPr>
          <p:cNvPr id="228" name=""/>
          <p:cNvCxnSpPr>
            <a:stCxn id="202" idx="2"/>
          </p:cNvCxnSpPr>
          <p:nvPr/>
        </p:nvCxnSpPr>
        <p:spPr>
          <a:xfrm flipH="1" rot="16200000">
            <a:off x="4245480" y="2095200"/>
            <a:ext cx="1587960" cy="7560360"/>
          </a:xfrm>
          <a:prstGeom prst="bentConnector2">
            <a:avLst/>
          </a:prstGeom>
          <a:ln w="12600">
            <a:solidFill>
              <a:srgbClr val="000086"/>
            </a:solidFill>
            <a:prstDash val="dash"/>
            <a:miter/>
          </a:ln>
        </p:spPr>
      </p:cxnSp>
      <p:cxnSp>
        <p:nvCxnSpPr>
          <p:cNvPr id="229" name=""/>
          <p:cNvCxnSpPr>
            <a:endCxn id="213" idx="3"/>
          </p:cNvCxnSpPr>
          <p:nvPr/>
        </p:nvCxnSpPr>
        <p:spPr>
          <a:xfrm flipH="1" flipV="1">
            <a:off x="8387640" y="6256080"/>
            <a:ext cx="432360" cy="413280"/>
          </a:xfrm>
          <a:prstGeom prst="bentConnector3">
            <a:avLst>
              <a:gd name="adj1" fmla="val -2916"/>
            </a:avLst>
          </a:prstGeom>
          <a:ln w="12600">
            <a:solidFill>
              <a:srgbClr val="000086"/>
            </a:solidFill>
            <a:prstDash val="dash"/>
            <a:miter/>
            <a:tailEnd len="lg" type="arrow" w="lg"/>
          </a:ln>
        </p:spPr>
      </p:cxnSp>
      <p:cxnSp>
        <p:nvCxnSpPr>
          <p:cNvPr id="230" name=""/>
          <p:cNvCxnSpPr>
            <a:endCxn id="209" idx="3"/>
          </p:cNvCxnSpPr>
          <p:nvPr/>
        </p:nvCxnSpPr>
        <p:spPr>
          <a:xfrm flipV="1" rot="16200000">
            <a:off x="7742160" y="5153040"/>
            <a:ext cx="1801080" cy="367560"/>
          </a:xfrm>
          <a:prstGeom prst="bentConnector2">
            <a:avLst/>
          </a:prstGeom>
          <a:ln w="12600">
            <a:solidFill>
              <a:srgbClr val="000086"/>
            </a:solidFill>
            <a:prstDash val="dash"/>
            <a:miter/>
            <a:tailEnd len="lg" type="arrow" w="lg"/>
          </a:ln>
        </p:spPr>
      </p:cxnSp>
      <p:sp>
        <p:nvSpPr>
          <p:cNvPr id="231" name=""/>
          <p:cNvSpPr/>
          <p:nvPr/>
        </p:nvSpPr>
        <p:spPr>
          <a:xfrm>
            <a:off x="1258920" y="508464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00440" y="456084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02040" y="6246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59200" y="41194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29680" y="5921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07440" y="41022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E23-586C-42D7-BDFA-F0AFCEDA2056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Un altro 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60440" y="1528920"/>
            <a:ext cx="1871640" cy="50292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32080" y="15811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6"/>
                </a:solidFill>
                <a:latin typeface="Tahoma"/>
              </a:rPr>
              <a:t>Tourn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89160" y="3125880"/>
            <a:ext cx="2016000" cy="100944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51080" y="3154320"/>
            <a:ext cx="19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86"/>
                </a:solidFill>
                <a:latin typeface="Tahoma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51080" y="3562200"/>
            <a:ext cx="1892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86"/>
                </a:solidFill>
                <a:latin typeface="Tahoma"/>
              </a:rPr>
              <a:t>CreateMatch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86"/>
                </a:solidFill>
                <a:latin typeface="Tahoma"/>
              </a:rPr>
              <a:t>CreateStatistics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89160" y="3500280"/>
            <a:ext cx="201600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39" idx="3"/>
            <a:endCxn id="246" idx="3"/>
          </p:cNvCxnSpPr>
          <p:nvPr/>
        </p:nvCxnSpPr>
        <p:spPr>
          <a:xfrm>
            <a:off x="3232080" y="1780920"/>
            <a:ext cx="4780800" cy="640440"/>
          </a:xfrm>
          <a:prstGeom prst="bentConnector3">
            <a:avLst>
              <a:gd name="adj1" fmla="val 104744"/>
            </a:avLst>
          </a:prstGeom>
          <a:ln w="9360">
            <a:solidFill>
              <a:srgbClr val="000086"/>
            </a:solidFill>
            <a:miter/>
            <a:tailEnd len="lg" type="arrow" w="lg"/>
          </a:ln>
        </p:spPr>
      </p:cxnSp>
      <p:cxnSp>
        <p:nvCxnSpPr>
          <p:cNvPr id="247" name=""/>
          <p:cNvCxnSpPr>
            <a:endCxn id="248" idx="3"/>
          </p:cNvCxnSpPr>
          <p:nvPr/>
        </p:nvCxnSpPr>
        <p:spPr>
          <a:xfrm rot="5400000">
            <a:off x="7358760" y="3096360"/>
            <a:ext cx="2296080" cy="816840"/>
          </a:xfrm>
          <a:prstGeom prst="bentConnector2">
            <a:avLst/>
          </a:prstGeom>
          <a:ln w="9360">
            <a:solidFill>
              <a:srgbClr val="000086"/>
            </a:solidFill>
            <a:miter/>
            <a:tailEnd len="lg" type="arrow" w="lg"/>
          </a:ln>
        </p:spPr>
      </p:cxnSp>
      <p:sp>
        <p:nvSpPr>
          <p:cNvPr id="249" name=""/>
          <p:cNvSpPr/>
          <p:nvPr/>
        </p:nvSpPr>
        <p:spPr>
          <a:xfrm>
            <a:off x="2556000" y="4869000"/>
            <a:ext cx="2087280" cy="100944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19360" y="4897440"/>
            <a:ext cx="20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Ch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19360" y="5305320"/>
            <a:ext cx="19605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CreateMatch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CreateStatistics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6000" y="5243400"/>
            <a:ext cx="208728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8000" y="4869000"/>
            <a:ext cx="2303280" cy="100944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48974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TicTacT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9280" y="5305320"/>
            <a:ext cx="21607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CreateMatch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86"/>
                </a:solidFill>
                <a:latin typeface="Tahoma"/>
              </a:rPr>
              <a:t>CreateStatistics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8000" y="5243400"/>
            <a:ext cx="230328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>
            <a:stCxn id="253" idx="0"/>
            <a:endCxn id="258" idx="3"/>
          </p:cNvCxnSpPr>
          <p:nvPr/>
        </p:nvCxnSpPr>
        <p:spPr>
          <a:xfrm flipH="1" flipV="1" rot="5400000">
            <a:off x="1530000" y="4095360"/>
            <a:ext cx="504000" cy="1043640"/>
          </a:xfrm>
          <a:prstGeom prst="bentConnector3">
            <a:avLst>
              <a:gd name="adj1" fmla="val 49821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2195640" y="4149720"/>
            <a:ext cx="21564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"/>
          <p:cNvCxnSpPr>
            <a:stCxn id="249" idx="0"/>
            <a:endCxn id="258" idx="3"/>
          </p:cNvCxnSpPr>
          <p:nvPr/>
        </p:nvCxnSpPr>
        <p:spPr>
          <a:xfrm flipV="1" rot="16200000">
            <a:off x="2700000" y="3968280"/>
            <a:ext cx="504000" cy="1297440"/>
          </a:xfrm>
          <a:prstGeom prst="bentConnector3">
            <a:avLst>
              <a:gd name="adj1" fmla="val 49821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5205240" y="3338640"/>
            <a:ext cx="1382760" cy="43164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76880" y="336384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TTT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78680" y="3341520"/>
            <a:ext cx="1596960" cy="37476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49960" y="3367080"/>
            <a:ext cx="15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Chess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76880" y="5734080"/>
            <a:ext cx="1512720" cy="3952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49960" y="576900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TTTS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78680" y="5734080"/>
            <a:ext cx="1655640" cy="39528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5769000"/>
            <a:ext cx="16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6"/>
                </a:solidFill>
                <a:latin typeface="Tahoma"/>
              </a:rPr>
              <a:t>ChessS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3640" y="14810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13600" y="21049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01080" y="43210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38240" y="2795760"/>
            <a:ext cx="9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40760" y="2013120"/>
            <a:ext cx="9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64" idx="0"/>
            <a:endCxn id="274" idx="3"/>
          </p:cNvCxnSpPr>
          <p:nvPr/>
        </p:nvCxnSpPr>
        <p:spPr>
          <a:xfrm flipH="1" flipV="1" rot="5400000">
            <a:off x="6292440" y="5114160"/>
            <a:ext cx="361080" cy="878760"/>
          </a:xfrm>
          <a:prstGeom prst="bentConnector3">
            <a:avLst>
              <a:gd name="adj1" fmla="val 49700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6804000" y="5157720"/>
            <a:ext cx="216000" cy="21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267" idx="0"/>
            <a:endCxn id="274" idx="3"/>
          </p:cNvCxnSpPr>
          <p:nvPr/>
        </p:nvCxnSpPr>
        <p:spPr>
          <a:xfrm flipV="1" rot="16200000">
            <a:off x="7218720" y="5065920"/>
            <a:ext cx="396000" cy="1010520"/>
          </a:xfrm>
          <a:prstGeom prst="bentConnector3">
            <a:avLst>
              <a:gd name="adj1" fmla="val 54140"/>
            </a:avLst>
          </a:prstGeom>
          <a:ln w="12600">
            <a:solidFill>
              <a:srgbClr val="000086"/>
            </a:solidFill>
            <a:miter/>
          </a:ln>
        </p:spPr>
      </p:cxnSp>
      <p:cxnSp>
        <p:nvCxnSpPr>
          <p:cNvPr id="276" name=""/>
          <p:cNvCxnSpPr>
            <a:stCxn id="260" idx="0"/>
            <a:endCxn id="277" idx="3"/>
          </p:cNvCxnSpPr>
          <p:nvPr/>
        </p:nvCxnSpPr>
        <p:spPr>
          <a:xfrm flipH="1" flipV="1" rot="5400000">
            <a:off x="6269040" y="2767320"/>
            <a:ext cx="199440" cy="943560"/>
          </a:xfrm>
          <a:prstGeom prst="bentConnector3">
            <a:avLst>
              <a:gd name="adj1" fmla="val 49547"/>
            </a:avLst>
          </a:prstGeom>
          <a:ln w="12600">
            <a:solidFill>
              <a:srgbClr val="000086"/>
            </a:solidFill>
            <a:miter/>
          </a:ln>
        </p:spPr>
      </p:cxnSp>
      <p:sp>
        <p:nvSpPr>
          <p:cNvPr id="277" name=""/>
          <p:cNvSpPr/>
          <p:nvPr/>
        </p:nvSpPr>
        <p:spPr>
          <a:xfrm>
            <a:off x="6732720" y="2924280"/>
            <a:ext cx="215640" cy="215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>
            <a:stCxn id="262" idx="0"/>
            <a:endCxn id="277" idx="3"/>
          </p:cNvCxnSpPr>
          <p:nvPr/>
        </p:nvCxnSpPr>
        <p:spPr>
          <a:xfrm flipV="1" rot="16200000">
            <a:off x="7257600" y="2721600"/>
            <a:ext cx="202320" cy="1037520"/>
          </a:xfrm>
          <a:prstGeom prst="bentConnector3">
            <a:avLst>
              <a:gd name="adj1" fmla="val 50267"/>
            </a:avLst>
          </a:prstGeom>
          <a:ln w="12600">
            <a:solidFill>
              <a:srgbClr val="000086"/>
            </a:solidFill>
            <a:miter/>
          </a:ln>
        </p:spPr>
      </p:cxnSp>
      <p:cxnSp>
        <p:nvCxnSpPr>
          <p:cNvPr id="279" name=""/>
          <p:cNvCxnSpPr>
            <a:stCxn id="249" idx="3"/>
            <a:endCxn id="260" idx="1"/>
          </p:cNvCxnSpPr>
          <p:nvPr/>
        </p:nvCxnSpPr>
        <p:spPr>
          <a:xfrm flipV="1">
            <a:off x="4642920" y="3553920"/>
            <a:ext cx="562680" cy="1820160"/>
          </a:xfrm>
          <a:prstGeom prst="bentConnector3">
            <a:avLst>
              <a:gd name="adj1" fmla="val 49679"/>
            </a:avLst>
          </a:prstGeom>
          <a:ln w="12600">
            <a:solidFill>
              <a:srgbClr val="000086"/>
            </a:solidFill>
            <a:prstDash val="dash"/>
            <a:miter/>
            <a:tailEnd len="lg" type="arrow" w="lg"/>
          </a:ln>
        </p:spPr>
      </p:cxnSp>
      <p:cxnSp>
        <p:nvCxnSpPr>
          <p:cNvPr id="280" name=""/>
          <p:cNvCxnSpPr>
            <a:stCxn id="249" idx="3"/>
            <a:endCxn id="264" idx="1"/>
          </p:cNvCxnSpPr>
          <p:nvPr/>
        </p:nvCxnSpPr>
        <p:spPr>
          <a:xfrm>
            <a:off x="4643280" y="5373720"/>
            <a:ext cx="634320" cy="559080"/>
          </a:xfrm>
          <a:prstGeom prst="bentConnector3">
            <a:avLst>
              <a:gd name="adj1" fmla="val 49858"/>
            </a:avLst>
          </a:prstGeom>
          <a:ln w="12600">
            <a:solidFill>
              <a:srgbClr val="000086"/>
            </a:solidFill>
            <a:prstDash val="dash"/>
            <a:miter/>
            <a:tailEnd len="lg" type="arrow" w="lg"/>
          </a:ln>
        </p:spPr>
      </p:cxnSp>
      <p:cxnSp>
        <p:nvCxnSpPr>
          <p:cNvPr id="281" name=""/>
          <p:cNvCxnSpPr>
            <a:stCxn id="253" idx="2"/>
          </p:cNvCxnSpPr>
          <p:nvPr/>
        </p:nvCxnSpPr>
        <p:spPr>
          <a:xfrm flipH="1" rot="16200000">
            <a:off x="4829040" y="2308680"/>
            <a:ext cx="621000" cy="7760520"/>
          </a:xfrm>
          <a:prstGeom prst="bentConnector2">
            <a:avLst/>
          </a:prstGeom>
          <a:ln w="12600">
            <a:solidFill>
              <a:srgbClr val="000086"/>
            </a:solidFill>
            <a:prstDash val="dash"/>
            <a:miter/>
          </a:ln>
        </p:spPr>
      </p:cxnSp>
      <p:cxnSp>
        <p:nvCxnSpPr>
          <p:cNvPr id="282" name=""/>
          <p:cNvCxnSpPr>
            <a:endCxn id="267" idx="3"/>
          </p:cNvCxnSpPr>
          <p:nvPr/>
        </p:nvCxnSpPr>
        <p:spPr>
          <a:xfrm flipV="1" rot="16200000">
            <a:off x="8611560" y="6074640"/>
            <a:ext cx="548640" cy="272160"/>
          </a:xfrm>
          <a:prstGeom prst="bentConnector2">
            <a:avLst/>
          </a:prstGeom>
          <a:ln w="12600">
            <a:solidFill>
              <a:srgbClr val="000086"/>
            </a:solidFill>
            <a:prstDash val="dash"/>
            <a:miter/>
            <a:tailEnd len="lg" type="arrow" w="lg"/>
          </a:ln>
        </p:spPr>
      </p:cxnSp>
      <p:cxnSp>
        <p:nvCxnSpPr>
          <p:cNvPr id="283" name=""/>
          <p:cNvCxnSpPr>
            <a:endCxn id="263" idx="3"/>
          </p:cNvCxnSpPr>
          <p:nvPr/>
        </p:nvCxnSpPr>
        <p:spPr>
          <a:xfrm flipV="1" rot="16200000">
            <a:off x="7620120" y="4589640"/>
            <a:ext cx="2455200" cy="345240"/>
          </a:xfrm>
          <a:prstGeom prst="bentConnector2">
            <a:avLst/>
          </a:prstGeom>
          <a:ln w="12600">
            <a:solidFill>
              <a:srgbClr val="000086"/>
            </a:solidFill>
            <a:prstDash val="dash"/>
            <a:miter/>
            <a:tailEnd len="lg" type="arrow" w="lg"/>
          </a:ln>
        </p:spPr>
      </p:cxnSp>
      <p:sp>
        <p:nvSpPr>
          <p:cNvPr id="284" name=""/>
          <p:cNvSpPr/>
          <p:nvPr/>
        </p:nvSpPr>
        <p:spPr>
          <a:xfrm>
            <a:off x="1258920" y="587700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14840" y="506556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59022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45160" y="3213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704440" y="55897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683560" y="3213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6"/>
                </a:solidFill>
                <a:latin typeface="Tahoma"/>
              </a:rPr>
              <a:t>0.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08520" y="1916280"/>
            <a:ext cx="2303640" cy="100944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80160" y="1944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86"/>
                </a:solidFill>
                <a:latin typeface="Tahoma"/>
              </a:rPr>
              <a:t>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80160" y="2352600"/>
            <a:ext cx="21603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6"/>
                </a:solidFill>
                <a:latin typeface="Tahoma"/>
              </a:rPr>
              <a:t>PlayMov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6"/>
                </a:solidFill>
                <a:latin typeface="Tahoma"/>
              </a:rPr>
              <a:t>Repla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08520" y="2290680"/>
            <a:ext cx="230364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4148280"/>
            <a:ext cx="2303280" cy="1009440"/>
          </a:xfrm>
          <a:prstGeom prst="rect">
            <a:avLst/>
          </a:prstGeom>
          <a:solidFill>
            <a:srgbClr val="990000">
              <a:alpha val="55000"/>
            </a:srgbClr>
          </a:solidFill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4176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86"/>
                </a:solidFill>
                <a:latin typeface="Tahoma"/>
              </a:rPr>
              <a:t>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867280" y="4584600"/>
            <a:ext cx="21607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6"/>
                </a:solidFill>
                <a:latin typeface="Tahoma"/>
              </a:rPr>
              <a:t>Updat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6"/>
                </a:solidFill>
                <a:latin typeface="Tahoma"/>
              </a:rPr>
              <a:t>GetSta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96000" y="4522680"/>
            <a:ext cx="2303280" cy="0"/>
          </a:xfrm>
          <a:prstGeom prst="line">
            <a:avLst/>
          </a:prstGeom>
          <a:ln w="936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>
            <a:stCxn id="239" idx="2"/>
            <a:endCxn id="241" idx="0"/>
          </p:cNvCxnSpPr>
          <p:nvPr/>
        </p:nvCxnSpPr>
        <p:spPr>
          <a:xfrm flipV="1" rot="10800000">
            <a:off x="2296440" y="2031480"/>
            <a:ext cx="1080" cy="1094760"/>
          </a:xfrm>
          <a:prstGeom prst="bentConnector2">
            <a:avLst/>
          </a:prstGeom>
          <a:ln w="12600">
            <a:solidFill>
              <a:srgbClr val="000086"/>
            </a:solidFill>
            <a:miter/>
            <a:tailEnd len="lg" type="arrow" w="lg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00C-CCEF-4241-8D54-1BB4C94481D2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6"/>
                </a:solidFill>
                <a:latin typeface="Comic Sans MS"/>
              </a:rPr>
              <a:t>Applicabil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1197000"/>
            <a:ext cx="8424720" cy="216000"/>
          </a:xfrm>
          <a:custGeom>
            <a:avLst/>
            <a:gdLst/>
            <a:ahLst/>
            <a:rect l="l" t="t" r="r" b="b"/>
            <a:pathLst>
              <a:path w="5646" h="136">
                <a:moveTo>
                  <a:pt x="0" y="136"/>
                </a:moveTo>
                <a:cubicBezTo>
                  <a:pt x="22" y="68"/>
                  <a:pt x="45" y="0"/>
                  <a:pt x="861" y="0"/>
                </a:cubicBezTo>
                <a:cubicBezTo>
                  <a:pt x="1677" y="0"/>
                  <a:pt x="4150" y="136"/>
                  <a:pt x="4898" y="136"/>
                </a:cubicBezTo>
                <a:cubicBezTo>
                  <a:pt x="5646" y="136"/>
                  <a:pt x="5499" y="68"/>
                  <a:pt x="5352" y="0"/>
                </a:cubicBezTo>
              </a:path>
            </a:pathLst>
          </a:custGeom>
          <a:noFill/>
          <a:ln w="8244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424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04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6"/>
                </a:solidFill>
                <a:latin typeface="Tahoma"/>
              </a:rPr>
              <a:t>Il pattern Abstract Factory può essere utilizzato quan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400" indent="-320400">
              <a:lnSpc>
                <a:spcPct val="100000"/>
              </a:lnSpc>
              <a:spcBef>
                <a:spcPts val="649"/>
              </a:spcBef>
              <a:buClr>
                <a:srgbClr val="000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6"/>
                </a:solidFill>
                <a:latin typeface="Tahoma"/>
              </a:rPr>
              <a:t>Un sistema deve essere indipendente dalle modalità di creazione, composizione, rappresentazione dei suoi prodott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1462320" cy="2158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H="1">
            <a:off x="2627280" y="3573360"/>
            <a:ext cx="3240000" cy="1432800"/>
          </a:xfrm>
          <a:prstGeom prst="wedgeEllipseCallout">
            <a:avLst>
              <a:gd name="adj1" fmla="val -57587"/>
              <a:gd name="adj2" fmla="val 66023"/>
            </a:avLst>
          </a:prstGeom>
          <a:noFill/>
          <a:ln w="1260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6"/>
                </a:solidFill>
                <a:latin typeface="Tahoma"/>
              </a:rPr>
              <a:t>Platform indipende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89440" y="3110040"/>
            <a:ext cx="3275280" cy="1432800"/>
          </a:xfrm>
          <a:prstGeom prst="wedgeEllipseCallout">
            <a:avLst>
              <a:gd name="adj1" fmla="val 12277"/>
              <a:gd name="adj2" fmla="val 71273"/>
            </a:avLst>
          </a:prstGeom>
          <a:noFill/>
          <a:ln w="1260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6"/>
                </a:solidFill>
                <a:latin typeface="Tahoma"/>
              </a:rPr>
              <a:t>Manufacturer indipende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4941720"/>
            <a:ext cx="432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86"/>
                </a:solidFill>
                <a:latin typeface="Tahoma"/>
              </a:rPr>
              <a:t>ET++</a:t>
            </a:r>
            <a:r>
              <a:rPr b="0" lang="it-IT" sz="2200" spc="-1" strike="noStrike">
                <a:solidFill>
                  <a:srgbClr val="000086"/>
                </a:solidFill>
                <a:latin typeface="Tahoma"/>
              </a:rPr>
              <a:t> è un portable application framework, usato per creare programmi applicativi GUI-based indipendenti dalla piattafor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936000" y="3897000"/>
            <a:ext cx="1224000" cy="57636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66ff">
              <a:alpha val="72000"/>
            </a:srgbClr>
          </a:solidFill>
          <a:ln w="15840">
            <a:solidFill>
              <a:srgbClr val="0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F80-6A7A-43A8-A3EF-985B83D2C545}" type="slidenum">
              <a:t>9</a:t>
            </a:fld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16:23:00Z</dcterms:created>
  <dc:creator>Nicola Segnali</dc:creator>
  <dc:description/>
  <dc:language>en-US</dc:language>
  <cp:lastModifiedBy>Nicola Segnali</cp:lastModifiedBy>
  <dcterms:modified xsi:type="dcterms:W3CDTF">2006-02-09T19:48:29Z</dcterms:modified>
  <cp:revision>108</cp:revision>
  <dc:subject/>
  <dc:title>Design Patterns: Abstract Factory</dc:title>
</cp:coreProperties>
</file>